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78.png" ContentType="image/png"/>
  <Override PartName="/ppt/media/image47.jpeg" ContentType="image/jpeg"/>
  <Override PartName="/ppt/media/image46.jpeg" ContentType="image/jpeg"/>
  <Override PartName="/ppt/media/image45.png" ContentType="image/png"/>
  <Override PartName="/ppt/media/image44.jpeg" ContentType="image/jpeg"/>
  <Override PartName="/ppt/media/image43.jpeg" ContentType="image/jpeg"/>
  <Override PartName="/ppt/media/image41.jpeg" ContentType="image/jpeg"/>
  <Override PartName="/ppt/media/image36.jpeg" ContentType="image/jpeg"/>
  <Override PartName="/ppt/media/image34.jpeg" ContentType="image/jpeg"/>
  <Override PartName="/ppt/media/image33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15.png" ContentType="image/png"/>
  <Override PartName="/ppt/media/image18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media/image16.jpeg" ContentType="image/jpeg"/>
  <Override PartName="/ppt/media/image3.jpeg" ContentType="image/jpeg"/>
  <Override PartName="/ppt/media/image37.jpeg" ContentType="image/jpeg"/>
  <Override PartName="/ppt/media/image60.jpeg" ContentType="image/jpeg"/>
  <Override PartName="/ppt/media/image77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62.jpeg" ContentType="image/jpeg"/>
  <Override PartName="/ppt/media/image5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76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8.jpeg" ContentType="image/jpeg"/>
  <Override PartName="/ppt/media/image79.png" ContentType="image/png"/>
  <Override PartName="/ppt/media/image26.jpeg" ContentType="image/jpeg"/>
  <Override PartName="/ppt/media/image67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4.jpeg" ContentType="image/jpeg"/>
  <Override PartName="/ppt/media/image25.jpeg" ContentType="image/jpeg"/>
  <Override PartName="/ppt/media/image2.png" ContentType="image/png"/>
  <Override PartName="/ppt/media/image72.jpeg" ContentType="image/jpeg"/>
  <Override PartName="/ppt/media/image14.png" ContentType="image/png"/>
  <Override PartName="/ppt/media/image10.jpeg" ContentType="image/jpeg"/>
  <Override PartName="/ppt/media/image27.jpeg" ContentType="image/jpeg"/>
  <Override PartName="/ppt/media/image5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presProps.xml" ContentType="application/vnd.openxmlformats-officedocument.presentationml.presPro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4.xml.rels" ContentType="application/vnd.openxmlformats-package.relationships+xml"/>
  <Override PartName="/ppt/slides/_rels/slide54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32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7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13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55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128.xml" ContentType="application/vnd.openxmlformats-officedocument.presentationml.slide+xml"/>
  <Override PartName="/ppt/slides/slide52.xml" ContentType="application/vnd.openxmlformats-officedocument.presentationml.slide+xml"/>
  <Override PartName="/ppt/slides/slide147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54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810E-D838-4814-A5A1-C9D8C9F7A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3B2C-A8F1-4121-AC56-066DC96B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A4CB-38F4-42C3-B2DA-4C4A81311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651B-3C4B-4EAA-B90B-3E56E6E88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0B29-EF0E-40B5-AC34-E38D76A1B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F9BB-7B9D-4BAD-9155-19EEEED7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174D-630B-4EF3-9479-7DC5B0C7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1EEB5-7B58-441F-9A85-9D3CECBC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4CE8-B130-4269-8E57-3E4CAB9D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94E4-6A21-4E49-8576-4773AA12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EC04-414B-4531-98B0-B8512C47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09C7-4B13-4ADD-A89F-E7A47762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315B-E500-4260-BE10-2A609108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ACE4-AADD-4C2D-8022-D6F3B438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E52B-1EB6-477C-B516-C15632B4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9EC0-4321-4D03-84BE-88FA3E3E4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2D2A-E444-41F6-B409-9C52015D7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B3FD-D149-43D8-9C0D-BD584070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61E0-E378-4A5C-A960-38D16CE3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00CE-4D8B-46F0-B4B5-B92AE885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3632-DFCD-46A3-8D05-AF2F9600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BF87-D4C4-4BBA-99B0-60AB08C3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2150-7003-46CA-A663-AD55ED9D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D54F-3B50-44FF-8B3F-2A433BF0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2597-6360-490B-8E50-DB486EF787E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1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A24A-8AD4-4AA0-8700-805DD1CBAE0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arm4.static.flickr.com/3216/2958518330_085c4b6c55.jpg&amp;imgrefurl=http://midtownlunch.com/2008/10/20/hing-won-adds-by-the-pound-buffet-changes-menu-best-chinese-food-new-york-city-nyc/&amp;usg=__gYxeQQI_erUz6k8K2HkD9YgIxCU=&amp;h=375&amp;w=500&amp;sz=193&amp;hl=en&amp;start=52&amp;tbnid=43L5VKCqposdBM:&amp;tbnh=98&amp;tbnw=130&amp;prev=/images?q=food+bar&amp;gbv=2&amp;ndsp=20&amp;hl=en&amp;sa=N&amp;start=40" TargetMode="External"/><Relationship Id="rId2" Type="http://schemas.openxmlformats.org/officeDocument/2006/relationships/image" Target="../media/image71.jpeg"/><Relationship Id="rId3" Type="http://schemas.openxmlformats.org/officeDocument/2006/relationships/hyperlink" Target="http://images.google.com/imgres?imgurl=http://ec.europa.eu/enterprise/regulation/goods/images/cars.jpg&amp;imgrefurl=http://ec.europa.eu/enterprise/regulation/goods/car_registration/index_en.htm&amp;usg=__VX3P3AoxLDLheg7bpinRi5MdOVQ=&amp;h=613&amp;w=531&amp;sz=90&amp;hl=en&amp;start=6&amp;tbnid=65obEVh-V_P-BM:&amp;tbnh=136&amp;tbnw=118&amp;prev=/images?q=car&amp;gbv=2&amp;hl=en" TargetMode="External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image" Target="../media/image74.jpeg"/><Relationship Id="rId7" Type="http://schemas.openxmlformats.org/officeDocument/2006/relationships/image" Target="../media/image75.jpeg"/><Relationship Id="rId8" Type="http://schemas.openxmlformats.org/officeDocument/2006/relationships/image" Target="../media/image76.jpeg"/><Relationship Id="rId9" Type="http://schemas.openxmlformats.org/officeDocument/2006/relationships/image" Target="../media/image77.jpeg"/><Relationship Id="rId10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full-screen-stopwatch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meds.queensu.ca/courses/assets/modules/cast-application/cast_types_001.jpg&amp;imgrefurl=http://meds.queensu.ca/courses/assets/modules/cast-application/index.html&amp;usg=__2TyhzF8zCIokWKmsidNmMp8EYKM=&amp;h=1536&amp;w=2048&amp;sz=1157&amp;hl=en&amp;start=5&amp;tbnid=A8-x5KVhiJqe0M:&amp;tbnh=113&amp;tbnw=150&amp;prev=/images?q=cast&amp;gbv=2&amp;hl=en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/imgres?imgurl=http://img.alibaba.com/photo/11115336/Telecom_Tower_Mast_Monopole_BTS_Shelter_OF_Cabling.jpg&amp;imgrefurl=http://www.alibaba.com/product/nilanjan70-11115336-10770815/Telecom_Tower_Mast_Monopole_BTS_Shelter_OF_Cabling.html&amp;usg=__Z2tEj_vLsxtCy3i4K7U9WRAwIBQ=&amp;h=1191&amp;w=789&amp;sz=44&amp;hl=en&amp;start=2&amp;tbnid=HTRuHSzVnLnCRM:&amp;tbnh=150&amp;tbnw=99&amp;prev=/images?q=mast&amp;gbv=2&amp;hl=en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google.com/imgres?imgurl=http://www.schonbok.net/joe/images/Endeavour_Mizzen_Mast.jpg&amp;imgrefurl=http://www.schonbok.net/joe/cook_endeavour.htm&amp;usg=__vUeTCYnu04IETbZhbTy5JDVUzPI=&amp;h=726&amp;w=400&amp;sz=79&amp;hl=en&amp;start=30&amp;tbnid=9Z7RumYuVr4VtM:&amp;tbnh=141&amp;tbnw=78&amp;prev=/images?q=mast&amp;gbv=2&amp;ndsp=20&amp;hl=en&amp;sa=N&amp;start=20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google.com/imgres?imgurl=http://lagallery-frankfurt.de/lagalerie_english_deutsch/l_a_galerie_artists/hatakeyama/blast/5414to5419/Blast_5417.jpg&amp;imgrefurl=http://lagallery-frankfurt.de/hatakeyama1.html&amp;usg=__QpyENBbPUZVYL6Oq9YnHww4w3oo=&amp;h=313&amp;w=472&amp;sz=39&amp;hl=en&amp;start=2&amp;tbnid=tT-yZtp-1FYIcM:&amp;tbnh=86&amp;tbnw=129&amp;prev=/images?q=blast&amp;gbv=2&amp;hl=en" TargetMode="External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kimages.com/discover/previews/912/50386178.JPG&amp;imgrefurl=http://www.dkimages.com/discover/DKIMAGES/Discover/Home/Sports-Games-Recreation/Gambling/General/General-12.html&amp;usg=__T5OvkN1aZg6VLazQ-IUkAJCNZss=&amp;h=429&amp;w=357&amp;sz=31&amp;hl=en&amp;start=19&amp;tbnid=0DObIWmKoR-ClM:&amp;tbnh=126&amp;tbnw=105&amp;prev=/images?q=deal+cards&amp;gbv=2&amp;ndsp=20&amp;hl=en&amp;sa=N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google.com/imgres?imgurl=http://www.bizzia.com/files/198/2008/12/close-the-deal.jpg&amp;imgrefurl=http://www.bizzia.com/tag/the-interview/&amp;usg=__O9yuyFAXCaAhk_D3Pt8B03qCQGI=&amp;h=2896&amp;w=4096&amp;sz=3023&amp;hl=en&amp;start=8&amp;tbnid=RH4A5nF1sKKETM:&amp;tbnh=106&amp;tbnw=150&amp;prev=/images?q=deal&amp;gbv=2&amp;hl=en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images.google.com/imgres?imgurl=http://img4.southernliving.com/i/2005/11/gather-around-table/meal-m.jpg&amp;imgrefurl=http://www.southernliving.com/food/holidays-occasions/a-contemporary-hanukkah-meal-00400000005541/&amp;usg=__oKG17gy2IJBjDKQa-cge-bybIf8=&amp;h=300&amp;w=300&amp;sz=33&amp;hl=en&amp;start=13&amp;tbnid=HbjEpAO81fQOVM:&amp;tbnh=116&amp;tbnw=116&amp;prev=/images?q=meal&amp;gbv=2&amp;hl=en" TargetMode="External"/><Relationship Id="rId6" Type="http://schemas.openxmlformats.org/officeDocument/2006/relationships/image" Target="../media/image10.jpeg"/><Relationship Id="rId7" Type="http://schemas.openxmlformats.org/officeDocument/2006/relationships/hyperlink" Target="http://images.google.com/imgres?imgurl=http://www.mcbi.org/what/what_images/monk_seal.jpg&amp;imgrefurl=http://www.mcbi.org/what/monk_seals.html&amp;usg=__z0P0Pn9SBkhlvjuL2Zjh2-T_dmg=&amp;h=354&amp;w=350&amp;sz=33&amp;hl=en&amp;start=19&amp;tbnid=fWc9JAhY-zqyIM:&amp;tbnh=121&amp;tbnw=120&amp;prev=/images?q=seal&amp;gbv=2&amp;hl=en" TargetMode="External"/><Relationship Id="rId8" Type="http://schemas.openxmlformats.org/officeDocument/2006/relationships/image" Target="../media/image11.jpeg"/><Relationship Id="rId9" Type="http://schemas.openxmlformats.org/officeDocument/2006/relationships/hyperlink" Target="http://images.google.com/imgres?imgurl=http://www.gelstuff.com/images/beachglass-tealP.jpg&amp;imgrefurl=http://www.gelstuff.com/seaglass-teal.html&amp;usg=__Bmsyip14j1xxPcRNph6ZppEYsDk=&amp;h=335&amp;w=350&amp;sz=24&amp;hl=en&amp;start=4&amp;tbnid=waNcA5NKvd-yNM:&amp;tbnh=115&amp;tbnw=120&amp;prev=/images?q=teal&amp;gbv=2&amp;hl=en" TargetMode="External"/><Relationship Id="rId10" Type="http://schemas.openxmlformats.org/officeDocument/2006/relationships/image" Target="../media/image12.jpeg"/><Relationship Id="rId11" Type="http://schemas.openxmlformats.org/officeDocument/2006/relationships/hyperlink" Target="http://images.google.com/imgres?imgurl=http://img.timeinc.net/recipes/i/recipes/ck/04/07/veal-piccata-ck-682966-x.jpg&amp;imgrefurl=http://www.myrecipes.com/recipes/gallery/0,28548,1866762_1618272_1359109,00.html&amp;usg=__EdJXiUs-lfwm2K3wdfCHSyZ8UJI=&amp;h=420&amp;w=420&amp;sz=43&amp;hl=en&amp;start=51&amp;tbnid=vdd-W9JpZc51KM:&amp;tbnh=125&amp;tbnw=125&amp;prev=/images?q=veal&amp;gbv=2&amp;ndsp=20&amp;hl=en&amp;sa=N&amp;start=40" TargetMode="External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Class%20Tools/Helen%20Keller.htm" TargetMode="External"/><Relationship Id="rId2" Type="http://schemas.openxmlformats.org/officeDocument/2006/relationships/hyperlink" Target="http://www.scottsboro.org/~flewis/SF%20Reading%20Street/spellmaster/Helen%20Keller/jigword2.html" TargetMode="External"/><Relationship Id="rId3" Type="http://schemas.openxmlformats.org/officeDocument/2006/relationships/hyperlink" Target="http://www.scottsboro.org/~flewis/SF%20Reading%20Street/spellmaster/Helen%20Keller/matchword2.html" TargetMode="External"/><Relationship Id="rId4" Type="http://schemas.openxmlformats.org/officeDocument/2006/relationships/hyperlink" Target="http://www.scottsboro.org/~flewis/SF%20Reading%20Street/spellmaster/Helen%20Keller/speedword2.html" TargetMode="External"/><Relationship Id="rId5" Type="http://schemas.openxmlformats.org/officeDocument/2006/relationships/hyperlink" Target="http://www.scottsboro.org/~flewis/SF%20Reading%20Street/spellmaster/Helen%20Keller/wordsearch2.html" TargetMode="External"/><Relationship Id="rId6" Type="http://schemas.openxmlformats.org/officeDocument/2006/relationships/hyperlink" Target="http://www.scottsboro.org/~flewis/SF%20Reading%20Street/spellmaster/Helen%20Keller/wordweb.html" TargetMode="External"/><Relationship Id="rId7" Type="http://schemas.openxmlformats.org/officeDocument/2006/relationships/hyperlink" Target="http://www.spellingcity.com/view-spelling-list.html?listId=825593" TargetMode="External"/><Relationship Id="rId8" Type="http://schemas.openxmlformats.org/officeDocument/2006/relationships/hyperlink" Target="http://www.spellingcity.com/view-spelling-list.html?listId=825598" TargetMode="External"/><Relationship Id="rId9" Type="http://schemas.openxmlformats.org/officeDocument/2006/relationships/hyperlink" Target="http://www.scottsboro.org/~flewis/SF%20Reading%20Street/spellmaster/Henry%20&amp;%20Mudge%20Spelling%20Words/speedword2.html" TargetMode="External"/><Relationship Id="rId10" Type="http://schemas.openxmlformats.org/officeDocument/2006/relationships/hyperlink" Target="http://www.scottsboro.org/~flewis/SF%20Reading%20Street/spellmaster/Henry%20&amp;%20Mudge%20Spelling%20Words/wordweb.html" TargetMode="External"/><Relationship Id="rId11" Type="http://schemas.openxmlformats.org/officeDocument/2006/relationships/hyperlink" Target="http://www.quia.com/ba/110236.html" TargetMode="External"/><Relationship Id="rId12" Type="http://schemas.openxmlformats.org/officeDocument/2006/relationships/hyperlink" Target="http://www.quia.com/ba/110236.html" TargetMode="External"/><Relationship Id="rId13" Type="http://schemas.openxmlformats.org/officeDocument/2006/relationships/hyperlink" Target="http://www.spellingcity.com/index.php?option=com_spellcity&amp;Itemid=122&amp;task=viewList&amp;listId=354274" TargetMode="External"/><Relationship Id="rId14" Type="http://schemas.openxmlformats.org/officeDocument/2006/relationships/hyperlink" Target="http://www.spellingcity.com/view-spelling-list.html?listId=825602" TargetMode="External"/><Relationship Id="rId15" Type="http://schemas.openxmlformats.org/officeDocument/2006/relationships/hyperlink" Target="http://www.spellingcity.com/view-spelling-list.html?listId=825602" TargetMode="External"/><Relationship Id="rId1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africa.comworldseries.com/__data/assets/image/0003/108543/capetown1.jpg&amp;imgrefurl=http://africa.comworldseries.com/venue/about_cape_town&amp;usg=__gQyNQweWbNlcsY77Jz0pxj0q2eE=&amp;h=414&amp;w=550&amp;sz=29&amp;hl=en&amp;start=3&amp;tbnid=7btMH4TKAXglFM:&amp;tbnh=100&amp;tbnw=133&amp;prev=/images?q=cape&amp;gbv=2&amp;hl=en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com/imgres?imgurl=http://z.about.com/d/diyfashion/1/0/g/E/-/-/Cape.jpg&amp;imgrefurl=http://diyfashion.about.com/od/costumes/ss/Make_a_Cape.htm&amp;usg=__IRsMCeeY8_jQkvAqz9OVC-pigP4=&amp;h=478&amp;w=500&amp;sz=63&amp;hl=en&amp;start=24&amp;tbnid=N0yGYJm97krH2M:&amp;tbnh=124&amp;tbnw=130&amp;prev=/images?q=cape&amp;gbv=2&amp;ndsp=20&amp;hl=en&amp;sa=N&amp;start=20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images.google.com/imgres?imgurl=http://www.zafu.com/roller/resources/blog/waist%20gape%203.jpg&amp;imgrefurl=http://www.zafu.com/roller/page/blog/20061101&amp;usg=__OeBLri7ZK1Owt3yjpoMY-qO7HU0=&amp;h=655&amp;w=691&amp;sz=71&amp;hl=en&amp;start=4&amp;tbnid=6z7QgvstZhSnhM:&amp;tbnh=132&amp;tbnw=139&amp;prev=/images?q=gape&amp;gbv=2&amp;hl=en" TargetMode="External"/><Relationship Id="rId6" Type="http://schemas.openxmlformats.org/officeDocument/2006/relationships/image" Target="../media/image18.jpeg"/><Relationship Id="rId7" Type="http://schemas.openxmlformats.org/officeDocument/2006/relationships/hyperlink" Target="http://images.google.com/imgres?imgurl=http://bp0.blogger.com/_thlFYTjJbmQ/R700simf51I/AAAAAAAAELw/g6RTR2gkgoM/s400/gape.jpg&amp;imgrefurl=http://learning2share.blogspot.com/2008/02/some-screenshots-from-twonky-1953.html&amp;usg=__dTBJZD_0JQ05QHtYhBJtJfnZ7jI=&amp;h=298&amp;w=400&amp;sz=27&amp;hl=en&amp;start=14&amp;tbnid=Ng-vbhglADOAdM:&amp;tbnh=92&amp;tbnw=124&amp;prev=/images?q=gape&amp;gbv=2&amp;hl=en" TargetMode="External"/><Relationship Id="rId8" Type="http://schemas.openxmlformats.org/officeDocument/2006/relationships/image" Target="../media/image19.jpeg"/><Relationship Id="rId9" Type="http://schemas.openxmlformats.org/officeDocument/2006/relationships/hyperlink" Target="http://images.google.com/imgres?imgurl=http://cm1.theinsider.com/media/0/71/63/nape.0.0.0x0.432x324.jpeg&amp;imgrefurl=http://www.theinsider.com/news/870466_Guess_The_Celebrity_Nape_Defamer_Funtime_Presents&amp;usg=__H5B4_nbhkqr4qKrptV_UGQBdOss=&amp;h=322&amp;w=432&amp;sz=21&amp;hl=en&amp;start=6&amp;tbnid=M1hN5yZT-7SiWM:&amp;tbnh=94&amp;tbnw=126&amp;prev=/images?q=nape&amp;gbv=2&amp;hl=en" TargetMode="External"/><Relationship Id="rId10" Type="http://schemas.openxmlformats.org/officeDocument/2006/relationships/image" Target="../media/image20.jpeg"/><Relationship Id="rId11" Type="http://schemas.openxmlformats.org/officeDocument/2006/relationships/hyperlink" Target="http://images.google.com/imgres?imgurl=http://www.germes-online.com/direct/dbimage/50100019/Self_Adhesive_Fiberglass_Mesh_Tape.jpg&amp;imgrefurl=http://www.germes-online.com/catalog/17/24/700/198350/sell_self_adhesive_fiberglass_mesh_tape.html&amp;usg=__VDwkXs4Yx_eWG__wQIC5_-LQCEs=&amp;h=360&amp;w=360&amp;sz=25&amp;hl=en&amp;start=22&amp;tbnid=jjsWo-yjR48ytM:&amp;tbnh=121&amp;tbnw=121&amp;prev=/images?q=tape&amp;gbv=2&amp;ndsp=20&amp;hl=en&amp;sa=N&amp;start=20" TargetMode="External"/><Relationship Id="rId12" Type="http://schemas.openxmlformats.org/officeDocument/2006/relationships/image" Target="../media/image21.jpeg"/><Relationship Id="rId13" Type="http://schemas.openxmlformats.org/officeDocument/2006/relationships/hyperlink" Target="http://images.google.com/imgres?imgurl=http://nexus404.com/Blog/wp-content/uploads2/2007/09/cassette-tapes.jpg&amp;imgrefurl=http://nexus404.com/Blog/2007/09/23/cassette-tape-nostalgia-&#8211;-a-blast-from-the-past-courtesy-of-tapedeck-org/&amp;usg=__8rNQd6kPkSUDu-Uimz_xNiOzpf0=&amp;h=366&amp;w=350&amp;sz=45&amp;hl=en&amp;start=43&amp;tbnid=-kl_uxr39b9ruM:&amp;tbnh=122&amp;tbnw=117&amp;prev=/images?q=tape&amp;gbv=2&amp;ndsp=20&amp;hl=en&amp;sa=N&amp;start=40" TargetMode="External"/><Relationship Id="rId14" Type="http://schemas.openxmlformats.org/officeDocument/2006/relationships/image" Target="../media/image22.jpeg"/><Relationship Id="rId15" Type="http://schemas.openxmlformats.org/officeDocument/2006/relationships/hyperlink" Target="http://images.google.com/imgres?imgurl=http://www.millagent.com/images/102001/drape2.jpg&amp;imgrefurl=http://www.millagent.com/custom_drapery.shtml&amp;usg=__EXKVmVGbhIzRnKRdA1lPcQfab3s=&amp;h=607&amp;w=450&amp;sz=218&amp;hl=en&amp;start=3&amp;tbnid=C9kjB-Di7JYlqM:&amp;tbnh=136&amp;tbnw=101&amp;prev=/images?q=drape&amp;gbv=2&amp;hl=en" TargetMode="External"/><Relationship Id="rId16" Type="http://schemas.openxmlformats.org/officeDocument/2006/relationships/image" Target="../media/image23.jpeg"/><Relationship Id="rId17" Type="http://schemas.openxmlformats.org/officeDocument/2006/relationships/hyperlink" Target="http://images.google.com/imgres?imgurl=http://www.germes-online.com/direct/dbimage/50016374/Grape_Seed_Extract.jpg&amp;imgrefurl=http://www.germes-online.com/catalog/41/43/935/page2/&amp;usg=__cFPAB-fpMh0FxjstATzI60RUVvA=&amp;h=360&amp;w=360&amp;sz=35&amp;hl=en&amp;start=1&amp;tbnid=sawJ759vkrK0nM:&amp;tbnh=121&amp;tbnw=121&amp;prev=/images?q=grape&amp;gbv=2&amp;hl=en" TargetMode="External"/><Relationship Id="rId18" Type="http://schemas.openxmlformats.org/officeDocument/2006/relationships/image" Target="../media/image24.jpeg"/><Relationship Id="rId19" Type="http://schemas.openxmlformats.org/officeDocument/2006/relationships/hyperlink" Target="http://images.google.com/imgres?imgurl=http://www.squarehe.com/images/0611/scrape-right-elbow.jpg&amp;imgrefurl=http://www.squarehe.com/archive/0586.php&amp;usg=__5O38e2ticA4-Y3LAQ2QrCoB0A4g=&amp;h=413&amp;w=550&amp;sz=24&amp;hl=en&amp;start=9&amp;tbnid=tvjeRpGjvRFFDM:&amp;tbnh=100&amp;tbnw=133&amp;prev=/images?q=scrape&amp;gbv=2&amp;hl=en" TargetMode="External"/><Relationship Id="rId20" Type="http://schemas.openxmlformats.org/officeDocument/2006/relationships/image" Target="../media/image25.jpeg"/><Relationship Id="rId2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slide" Target="slide57.xml"/><Relationship Id="rId3" Type="http://schemas.openxmlformats.org/officeDocument/2006/relationships/slide" Target="slide59.xml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hyperlink" Target="http://images.google.com/imgres?imgurl=http://www.sally-jane.com/photographic_art/monochrome/monochrome-images/branches.jpg&amp;imgrefurl=http://www.sally-jane.com/photographic_art/monochrome/&amp;usg=__dihC16ehEutLqyiW0Hr9PxhC-_o=&amp;h=2465&amp;w=2465&amp;sz=1393&amp;hl=en&amp;start=4&amp;tbnid=5moe-mjA9S5kfM:&amp;tbnh=150&amp;tbnw=150&amp;prev=/images?q=branches&amp;gbv=2&amp;hl=en" TargetMode="External"/><Relationship Id="rId3" Type="http://schemas.openxmlformats.org/officeDocument/2006/relationships/image" Target="../media/image26.jpeg"/><Relationship Id="rId4" Type="http://schemas.openxmlformats.org/officeDocument/2006/relationships/hyperlink" Target="http://images.google.com/imgres?imgurl=http://www.freefoto.com/images/15/19/15_19_49---Tree-Branches_web.jpg&amp;imgrefurl=http://www.freefoto.com/preview/15-19-49?ffid=15-19-49&amp;k=Tree+Branches&amp;usg=__u6uhipPSlWxPEaqU4NGr8YrrFqo=&amp;h=402&amp;w=600&amp;sz=424&amp;hl=en&amp;start=10&amp;tbnid=JeRgqoo1XsyQtM:&amp;tbnh=90&amp;tbnw=135&amp;prev=/images?q=branches&amp;gbv=2&amp;hl=en" TargetMode="External"/><Relationship Id="rId5" Type="http://schemas.openxmlformats.org/officeDocument/2006/relationships/image" Target="../media/image27.jpeg"/><Relationship Id="rId6" Type="http://schemas.openxmlformats.org/officeDocument/2006/relationships/hyperlink" Target="http://images.google.com/imgres?imgurl=http://photos.paulschedler.net/Photos/3/b/5/3b569cef409348b4a957b089664de9e8-lg-Sparta-Wisconsin-United%20States-Autumn-Beautiful-Branches-Clouds-Fall-Fall%20Colors-HDR-Photomatix-Picturesque-Pretty-Sky-Tree.jpg&amp;imgrefurl=http://luap777.wordpress.com/2007/10/30/sparta-wisconsin-united-states-3b569cef409348b4a957b089664de9e8/&amp;usg=__EGHA5WElAwsKZLemlmeG81UbQAo=&amp;h=1499&amp;w=2000&amp;sz=628&amp;hl=en&amp;start=11&amp;tbnid=fA8hcN4a6HtqHM:&amp;tbnh=112&amp;tbnw=150&amp;prev=/images?q=branches&amp;gbv=2&amp;hl=en" TargetMode="External"/><Relationship Id="rId7" Type="http://schemas.openxmlformats.org/officeDocument/2006/relationships/image" Target="../media/image28.jpeg"/><Relationship Id="rId8" Type="http://schemas.openxmlformats.org/officeDocument/2006/relationships/hyperlink" Target="http://images.google.com/imgres?imgurl=http://julita.usask.ca/Saskatoon/branches.jpg&amp;imgrefurl=http://julita.usask.ca/homepage/saskatoon.htm&amp;usg=__KOthRc_nWSijnHzjcbL1d-RtP-E=&amp;h=1200&amp;w=1600&amp;sz=252&amp;hl=en&amp;start=14&amp;tbnid=v9aF8qsmITWxNM:&amp;tbnh=113&amp;tbnw=150&amp;prev=/images?q=branches&amp;gbv=2&amp;hl=en" TargetMode="External"/><Relationship Id="rId9" Type="http://schemas.openxmlformats.org/officeDocument/2006/relationships/image" Target="../media/image29.jpeg"/><Relationship Id="rId10" Type="http://schemas.openxmlformats.org/officeDocument/2006/relationships/hyperlink" Target="http://images.google.com/imgres?imgurl=http://photos.igougo.com/images/p202634-Anchorage_AK-Snowy_branches.jpg&amp;imgrefurl=http://photos.igougo.com/pictures-photos-l1775-p202634-Snowy_branches.html&amp;usg=__ShBsZYH3R6r7VzaC1M1HBw4gig8=&amp;h=474&amp;w=316&amp;sz=33&amp;hl=en&amp;start=30&amp;tbnid=6yCk7RCY7tKwhM:&amp;tbnh=129&amp;tbnw=86&amp;prev=/images?q=branches&amp;start=20&amp;gbv=2&amp;ndsp=20&amp;hl=en&amp;sa=N" TargetMode="External"/><Relationship Id="rId11" Type="http://schemas.openxmlformats.org/officeDocument/2006/relationships/image" Target="../media/image30.jpeg"/><Relationship Id="rId1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hyperlink" Target="http://images.google.com/imgres?imgurl=http://media.rd.com/rd/images/rdc/books/stealth-health/picnic-healthy-way-af.jpg&amp;imgrefurl=http://www.rd.com/living-healthy/healthy-picnic-food-recipes/article81533.html&amp;usg=__bUPukj-QBMUItCm4N4bs2gcatgk=&amp;h=328&amp;w=492&amp;sz=69&amp;hl=en&amp;start=6&amp;tbnid=GRIptWFns9rjGM:&amp;tbnh=87&amp;tbnw=130&amp;prev=/images?q=picnic&amp;gbv=2&amp;hl=en" TargetMode="External"/><Relationship Id="rId3" Type="http://schemas.openxmlformats.org/officeDocument/2006/relationships/image" Target="../media/image31.jpeg"/><Relationship Id="rId4" Type="http://schemas.openxmlformats.org/officeDocument/2006/relationships/hyperlink" Target="http://images.google.com/imgres?imgurl=http://www.naturecenter.org/Portals/0/Picnic%20area450.jpg&amp;imgrefurl=http://www.naturecenter.org/YourVisit/WeddingsandReceptions/PicnicArea/tabid/260/Default.aspx&amp;usg=__oQXWNoAnJUA8eGQi8UY7w90s4Rs=&amp;h=338&amp;w=450&amp;sz=200&amp;hl=en&amp;start=11&amp;tbnid=Iq27QPJSgi_okM:&amp;tbnh=95&amp;tbnw=127&amp;prev=/images?q=picnic&amp;gbv=2&amp;hl=en" TargetMode="External"/><Relationship Id="rId5" Type="http://schemas.openxmlformats.org/officeDocument/2006/relationships/image" Target="../media/image32.jpeg"/><Relationship Id="rId6" Type="http://schemas.openxmlformats.org/officeDocument/2006/relationships/hyperlink" Target="http://images.google.com/imgres?imgurl=http://www.sakida.com/picnic_catering.jpg&amp;imgrefurl=http://www.sakida.com/catering_caterers_catered_BBQ_barbecue_picnic.htm&amp;usg=__JfSfEyzfew6krBYgS4tiO87F8PI=&amp;h=290&amp;w=330&amp;sz=32&amp;hl=en&amp;start=14&amp;tbnid=cq9xwZw5w_tdrM:&amp;tbnh=105&amp;tbnw=119&amp;prev=/images?q=picnic&amp;gbv=2&amp;hl=en" TargetMode="External"/><Relationship Id="rId7" Type="http://schemas.openxmlformats.org/officeDocument/2006/relationships/image" Target="../media/image33.jpeg"/><Relationship Id="rId8" Type="http://schemas.openxmlformats.org/officeDocument/2006/relationships/hyperlink" Target="http://images.google.com/imgres?imgurl=http://www.pendle.gov.uk/images/picnic-140_1_.jpg&amp;imgrefurl=http://www.pendle.gov.uk/site/scripts/news_category.php?categoryID=1039&amp;usg=__fkpIapvjJ8HWTsR4KH4nk_rt_a4=&amp;h=2304&amp;w=2304&amp;sz=1337&amp;hl=en&amp;start=20&amp;tbnid=yAX3N61pMdyihM:&amp;tbnh=150&amp;tbnw=150&amp;prev=/images?q=picnic&amp;gbv=2&amp;hl=en" TargetMode="External"/><Relationship Id="rId9" Type="http://schemas.openxmlformats.org/officeDocument/2006/relationships/image" Target="../media/image34.jpeg"/><Relationship Id="rId10" Type="http://schemas.openxmlformats.org/officeDocument/2006/relationships/hyperlink" Target="http://images.google.com/imgres?imgurl=http://i.treehugger.com/images/2007/10/24/home-wetbar-picnic-foldingtable.jpg&amp;imgrefurl=http://www.treehugger.com/files/2007/09/have_a_backyard.php&amp;usg=__p-3MDyZIJ6D9Jh0MlhGEEdKTJfM=&amp;h=305&amp;w=468&amp;sz=40&amp;hl=en&amp;start=25&amp;tbnid=8co9Kc3D31LfcM:&amp;tbnh=83&amp;tbnw=128&amp;prev=/images?q=picnic&amp;start=20&amp;gbv=2&amp;ndsp=20&amp;hl=en&amp;sa=N" TargetMode="External"/><Relationship Id="rId11" Type="http://schemas.openxmlformats.org/officeDocument/2006/relationships/image" Target="../media/image35.jpeg"/><Relationship Id="rId12" Type="http://schemas.openxmlformats.org/officeDocument/2006/relationships/hyperlink" Target="http://images.google.com/imgres?imgurl=http://thymetocook.files.wordpress.com/2007/06/picnic.jpg&amp;imgrefurl=http://thymetocook.wordpress.com/2007/06/30/long-weekend/&amp;usg=__SLwtZdgevAn3iPvf57ktL_oumWE=&amp;h=324&amp;w=330&amp;sz=31&amp;hl=en&amp;start=33&amp;tbnid=EI-yd7lKWbZDBM:&amp;tbnh=117&amp;tbnw=119&amp;prev=/images?q=picnic&amp;start=20&amp;gbv=2&amp;ndsp=20&amp;hl=en&amp;sa=N" TargetMode="External"/><Relationship Id="rId13" Type="http://schemas.openxmlformats.org/officeDocument/2006/relationships/image" Target="../media/image36.jpeg"/><Relationship Id="rId1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hyperlink" Target="http://images.google.com/imgres?imgurl=http://distractible.org/wp-content/uploads/2007/09/temper-tantrum.jpg&amp;imgrefurl=http://distractible.org/2007/06/08/the-terminator/&amp;usg=__lzmmZMF1AuI4AsDwESK7eq0YlTs=&amp;h=480&amp;w=360&amp;sz=24&amp;hl=en&amp;start=4&amp;tbnid=Myb0CEAkdqLwqM:&amp;tbnh=129&amp;tbnw=97&amp;prev=/images?q=tantrum&amp;gbv=2&amp;hl=en" TargetMode="External"/><Relationship Id="rId3" Type="http://schemas.openxmlformats.org/officeDocument/2006/relationships/image" Target="../media/image37.jpeg"/><Relationship Id="rId4" Type="http://schemas.openxmlformats.org/officeDocument/2006/relationships/hyperlink" Target="http://images.google.com/imgres?imgurl=http://img.dailymail.co.uk/i/pix/2007/04_03/tantrumREX0805_228x300.jpg&amp;imgrefurl=http://www.dailymail.co.uk/health/article-453431/The-proof-food-additives-ARE-bad-feared.html&amp;usg=__E2IUTMwxLAw0EkcNNNpUnUczis0=&amp;h=300&amp;w=228&amp;sz=24&amp;hl=en&amp;start=5&amp;tbnid=6aCzSujSnjItCM:&amp;tbnh=116&amp;tbnw=88&amp;prev=/images?q=tantrum&amp;gbv=2&amp;hl=en" TargetMode="External"/><Relationship Id="rId5" Type="http://schemas.openxmlformats.org/officeDocument/2006/relationships/image" Target="../media/image38.jpeg"/><Relationship Id="rId6" Type="http://schemas.openxmlformats.org/officeDocument/2006/relationships/hyperlink" Target="http://images.google.com/imgres?imgurl=http://blog.syracuse.com/family/2008/02/tantrum.jpg&amp;imgrefurl=http://blog.syracuse.com/family/2008/02/is_your_toddler_really_human_n.html&amp;usg=__cI5-kBsaHfF_QmGx_pBJ-4o9x8g=&amp;h=720&amp;w=583&amp;sz=96&amp;hl=en&amp;start=8&amp;tbnid=i8mc82HOX6MoVM:&amp;tbnh=140&amp;tbnw=113&amp;prev=/images?q=tantrum&amp;gbv=2&amp;hl=en" TargetMode="External"/><Relationship Id="rId7" Type="http://schemas.openxmlformats.org/officeDocument/2006/relationships/image" Target="../media/image39.jpeg"/><Relationship Id="rId8" Type="http://schemas.openxmlformats.org/officeDocument/2006/relationships/hyperlink" Target="http://images.google.com/imgres?imgurl=http://www.wesleyjsmith.com/blog/uploaded_images/tantrum-boy-737185.jpg&amp;imgrefurl=http://www.wesleyjsmith.com/blog/2008/05/steven-pinkers-stupid-tantrum.html&amp;usg=__XhpRkUAJZvZ3qFiQlsf112I9mrI=&amp;h=340&amp;w=336&amp;sz=28&amp;hl=en&amp;start=22&amp;tbnid=WRdl7Ba5asRBhM:&amp;tbnh=119&amp;tbnw=118&amp;prev=/images?q=tantrum&amp;start=20&amp;gbv=2&amp;ndsp=20&amp;hl=en&amp;sa=N" TargetMode="External"/><Relationship Id="rId9" Type="http://schemas.openxmlformats.org/officeDocument/2006/relationships/image" Target="../media/image40.jpeg"/><Relationship Id="rId10" Type="http://schemas.openxmlformats.org/officeDocument/2006/relationships/hyperlink" Target="http://images.google.com/imgres?imgurl=http://z.about.com/d/autism/1/0/j/-/-/-/tantrum2.jpg&amp;imgrefurl=http://autism.about.com/b/2008/04/06/your-advice-requested-how-to-manage-an-autistic-grandsons-tantrums.htm&amp;usg=__o9nItnHkZ5pH9NYvxJ8fRiWzIDc=&amp;h=506&amp;w=337&amp;sz=67&amp;hl=en&amp;start=17&amp;tbnid=Cg72C-ZTH4QE0M:&amp;tbnh=131&amp;tbnw=87&amp;prev=/images?q=tantrum&amp;gbv=2&amp;ndsp=20&amp;hl=en&amp;sa=N" TargetMode="External"/><Relationship Id="rId11" Type="http://schemas.openxmlformats.org/officeDocument/2006/relationships/image" Target="../media/image41.jpeg"/><Relationship Id="rId12" Type="http://schemas.openxmlformats.org/officeDocument/2006/relationships/hyperlink" Target="http://images.google.com/imgres?imgurl=http://bp3.blogger.com/_k4zydG6cozg/Rnp5VzRMq2I/AAAAAAAAAi0/Z4WcJ-b3s9w/s320/tantrum.jpg&amp;imgrefurl=http://paternallife.wordpress.com/2007/06/21/guidance-discipline-and-tantrums/&amp;usg=__XLWUDxz1q8sfT4W-n9XcaqVlCiY=&amp;h=300&amp;w=295&amp;sz=12&amp;hl=en&amp;start=18&amp;tbnid=5ZCsOAoW4CaimM:&amp;tbnh=116&amp;tbnw=114&amp;prev=/images?q=tantrum&amp;gbv=2&amp;ndsp=20&amp;hl=en&amp;sa=N" TargetMode="External"/><Relationship Id="rId13" Type="http://schemas.openxmlformats.org/officeDocument/2006/relationships/image" Target="../media/image42.jpeg"/><Relationship Id="rId14" Type="http://schemas.openxmlformats.org/officeDocument/2006/relationships/hyperlink" Target="http://images.google.com/imgres?imgurl=http://images.craveonline.com/article_imgs/Image/toddler_tantrum.jpg&amp;imgrefurl=http://www.sheknows.com/articles/803794.htm&amp;usg=__u17ozSQpmXeC97xyE_oiInNlskE=&amp;h=399&amp;w=600&amp;sz=214&amp;hl=en&amp;start=28&amp;tbnid=a9KTxSwytrhjnM:&amp;tbnh=90&amp;tbnw=135&amp;prev=/images?q=tantrum&amp;start=20&amp;gbv=2&amp;ndsp=20&amp;hl=en&amp;sa=N" TargetMode="External"/><Relationship Id="rId15" Type="http://schemas.openxmlformats.org/officeDocument/2006/relationships/image" Target="../media/image43.jpeg"/><Relationship Id="rId16" Type="http://schemas.openxmlformats.org/officeDocument/2006/relationships/hyperlink" Target="http://images.google.com/imgres?imgurl=http://distractiblemind.ambulatorycomputing.com/wp-content/uploads/2007/01/windowslivewritermusingsfor127parenting-10160tantrum1.jpg&amp;imgrefurl=http://endogenousretrovirus.blogspot.com/2007_12_01_archive.html&amp;usg=__YTP8CyYv2hNQ6PsC5yPx6_xZiVc=&amp;h=476&amp;w=640&amp;sz=346&amp;hl=en&amp;start=36&amp;tbnid=unsQE2UFaKqmxM:&amp;tbnh=102&amp;tbnw=137&amp;prev=/images?q=tantrum&amp;start=20&amp;gbv=2&amp;ndsp=20&amp;hl=en&amp;sa=N" TargetMode="External"/><Relationship Id="rId17" Type="http://schemas.openxmlformats.org/officeDocument/2006/relationships/image" Target="../media/image44.jpeg"/><Relationship Id="rId1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58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hyperlink" Target="http://images.google.com/imgres?imgurl=http://www.blitzusa.com/products/oil/Funnels/images/05064%20Large%20Funnel.jpg&amp;imgrefurl=http://www.blitzusa.com/products/oil/Funnels/poflf.htm&amp;usg=__NQGnTXx80owr5UOAymjMwI5SdhA=&amp;h=559&amp;w=700&amp;sz=17&amp;hl=en&amp;start=2&amp;tbnid=TJgu5MHagDginM:&amp;tbnh=112&amp;tbnw=140&amp;prev=/images?q=funnel&amp;gbv=2&amp;hl=en" TargetMode="External"/><Relationship Id="rId3" Type="http://schemas.openxmlformats.org/officeDocument/2006/relationships/image" Target="../media/image46.jpeg"/><Relationship Id="rId4" Type="http://schemas.openxmlformats.org/officeDocument/2006/relationships/hyperlink" Target="http://images.google.com/imgres?imgurl=http://orgchem.colorado.edu/equipment/images/funnels.jpg&amp;imgrefurl=http://orgchem.colorado.edu/equipment/glassware/filtfun.html&amp;usg=__trruQ3hAD0jZhFpn55zBsPvyrG0=&amp;h=300&amp;w=400&amp;sz=28&amp;hl=en&amp;start=13&amp;tbnid=b9qb8nqPrLQjEM:&amp;tbnh=93&amp;tbnw=124&amp;prev=/images?q=funnel&amp;gbv=2&amp;hl=en" TargetMode="External"/><Relationship Id="rId5" Type="http://schemas.openxmlformats.org/officeDocument/2006/relationships/image" Target="../media/image47.jpeg"/><Relationship Id="rId6" Type="http://schemas.openxmlformats.org/officeDocument/2006/relationships/hyperlink" Target="http://images.google.com/imgres?imgurl=http://atm.ucdavis.edu/images/funnel_cloud_bw.jpg&amp;imgrefurl=http://atm.ucdavis.edu/weather/archives.php&amp;usg=__GycoqKeZppZhTuy8dar5xRYj0iE=&amp;h=700&amp;w=529&amp;sz=61&amp;hl=en&amp;start=61&amp;tbnid=7KZSa3hQQfmGZM:&amp;tbnh=140&amp;tbnw=106&amp;prev=/images?q=funnel&amp;start=60&amp;gbv=2&amp;ndsp=20&amp;hl=en&amp;sa=N" TargetMode="External"/><Relationship Id="rId7" Type="http://schemas.openxmlformats.org/officeDocument/2006/relationships/image" Target="../media/image48.jpeg"/><Relationship Id="rId8" Type="http://schemas.openxmlformats.org/officeDocument/2006/relationships/hyperlink" Target="http://images.google.com/imgres?imgurl=http://visualstreak.com/wordpress/wp-content/uploads/2008/06/iowa-tornado-funnel.jpg&amp;imgrefurl=http://visualstreak.com/2008/06/18/iowa-tornado-funnel-cloud/&amp;usg=__oULBUTpFPemcWJ5AlnWJNkXJ1r4=&amp;h=308&amp;w=420&amp;sz=39&amp;hl=en&amp;start=91&amp;tbnid=1LuY1n4mYpJR2M:&amp;tbnh=92&amp;tbnw=125&amp;prev=/images?q=funnel&amp;start=80&amp;gbv=2&amp;ndsp=20&amp;hl=en&amp;sa=N" TargetMode="External"/><Relationship Id="rId9" Type="http://schemas.openxmlformats.org/officeDocument/2006/relationships/image" Target="../media/image49.jpeg"/><Relationship Id="rId10" Type="http://schemas.openxmlformats.org/officeDocument/2006/relationships/hyperlink" Target="http://images.google.com/imgres?imgurl=http://upload.wikimedia.org/wikipedia/en/d/d9/Funnel_cake_20040821_172200_1.1655x1275.jpg&amp;imgrefurl=http://www.todaysdailydose.com/2008/02/tasty-tuesday-funnel-cakes.html&amp;usg=__7AFQaxpb5fRf8PuM23W9KgA2ogo=&amp;h=1275&amp;w=1655&amp;sz=411&amp;hl=en&amp;start=155&amp;tbnid=Ee-HOhuawoNOzM:&amp;tbnh=116&amp;tbnw=150&amp;prev=/images?q=funnel&amp;start=140&amp;gbv=2&amp;ndsp=20&amp;hl=en&amp;sa=N" TargetMode="External"/><Relationship Id="rId11" Type="http://schemas.openxmlformats.org/officeDocument/2006/relationships/image" Target="../media/image50.jpeg"/><Relationship Id="rId12" Type="http://schemas.openxmlformats.org/officeDocument/2006/relationships/hyperlink" Target="http://images.google.com/imgres?imgurl=http://www.jeffsweather.com/archives/funnel%20cloud.jpg&amp;imgrefurl=http://www.jeffsweather.com/archives/2006/10/&amp;usg=__EHWxoS1CSBOqsZKuhAtDk8-f5_0=&amp;h=413&amp;w=550&amp;sz=30&amp;hl=en&amp;start=14&amp;tbnid=cyWqR6YpRmA4KM:&amp;tbnh=100&amp;tbnw=133&amp;prev=/images?q=funnel+cloud&amp;gbv=2&amp;hl=en" TargetMode="External"/><Relationship Id="rId13" Type="http://schemas.openxmlformats.org/officeDocument/2006/relationships/image" Target="../media/image51.jpeg"/><Relationship Id="rId1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75.xml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hyperlink" Target="http://images.google.com/imgres?imgurl=http://swirl.com/swirl.gif&amp;imgrefurl=http://www.swirl.com/&amp;usg=__3vDUrVvPDT-cQmlzShw6ILZe0CU=&amp;h=480&amp;w=640&amp;sz=20&amp;hl=en&amp;start=37&amp;tbnid=Xb-26mcJFV-YAM:&amp;tbnh=103&amp;tbnw=137&amp;prev=/images?q=swirl&amp;start=20&amp;gbv=2&amp;ndsp=20&amp;hl=en&amp;sa=N" TargetMode="External"/><Relationship Id="rId3" Type="http://schemas.openxmlformats.org/officeDocument/2006/relationships/image" Target="../media/image52.jpeg"/><Relationship Id="rId4" Type="http://schemas.openxmlformats.org/officeDocument/2006/relationships/hyperlink" Target="http://images.google.com/imgres?imgurl=http://lib.store.yahoo.net/lib/goldmountainmining/gold-swirl-cuff-bracelets-600.jpg&amp;imgrefurl=http://www.goldmountainmining.com/golswircufbr.html&amp;usg=__wLORvfp2BHvwDX7TU9S1l98293Y=&amp;h=460&amp;w=550&amp;sz=59&amp;hl=en&amp;start=45&amp;tbnid=FHTMaptL4K6i-M:&amp;tbnh=111&amp;tbnw=133&amp;prev=/images?q=swirl&amp;start=40&amp;gbv=2&amp;ndsp=20&amp;hl=en&amp;sa=N" TargetMode="External"/><Relationship Id="rId5" Type="http://schemas.openxmlformats.org/officeDocument/2006/relationships/image" Target="../media/image53.jpeg"/><Relationship Id="rId6" Type="http://schemas.openxmlformats.org/officeDocument/2006/relationships/hyperlink" Target="http://images.google.com/imgres?imgurl=http://www.crestock.com/images/390000-399999/390559-xs.jpg&amp;imgrefurl=http://www.crestock.com/image/390559-Bright-colorful-fractal-swirl-image.aspx&amp;usg=__fa9CAWlwJn-C1MSnEiFi_8PKj5w=&amp;h=340&amp;w=340&amp;sz=34&amp;hl=en&amp;start=56&amp;tbnid=wFyUVoUhPr3ulM:&amp;tbnh=119&amp;tbnw=119&amp;prev=/images?q=swirl&amp;start=40&amp;gbv=2&amp;ndsp=20&amp;hl=en&amp;sa=N" TargetMode="External"/><Relationship Id="rId7" Type="http://schemas.openxmlformats.org/officeDocument/2006/relationships/image" Target="../media/image54.jpeg"/><Relationship Id="rId8" Type="http://schemas.openxmlformats.org/officeDocument/2006/relationships/hyperlink" Target="http://images.google.com/imgres?imgurl=http://www.jammadesigns.com/media/Heart.Swirl.Romantic.Wall.Art.jpg&amp;imgrefurl=http://www.jammadesigns.com/decorative_wall_crosses,_celtic_wall_art,_love_and_heart_wall_decor.htm&amp;usg=__4ow2G4rLngl9Le2wwumVhAV2MTI=&amp;h=522&amp;w=500&amp;sz=36&amp;hl=en&amp;start=59&amp;tbnid=RGAtJdkoeyLKTM:&amp;tbnh=131&amp;tbnw=125&amp;prev=/images?q=swirl&amp;start=40&amp;gbv=2&amp;ndsp=20&amp;hl=en&amp;sa=N" TargetMode="External"/><Relationship Id="rId9" Type="http://schemas.openxmlformats.org/officeDocument/2006/relationships/image" Target="../media/image55.jpeg"/><Relationship Id="rId10" Type="http://schemas.openxmlformats.org/officeDocument/2006/relationships/hyperlink" Target="http://images.google.com/imgres?imgurl=http://www.dyemasters.net/shirts/swirl.gif&amp;imgrefurl=http://www.dyemasters.net/shirts1.htm&amp;usg=__MsLd8kvs13AiS-Howv0X1301T5k=&amp;h=378&amp;w=400&amp;sz=75&amp;hl=en&amp;start=108&amp;tbnid=5Mt3g3F6t2pUWM:&amp;tbnh=117&amp;tbnw=124&amp;prev=/images?q=swirl&amp;start=100&amp;gbv=2&amp;ndsp=20&amp;hl=en&amp;sa=N" TargetMode="External"/><Relationship Id="rId11" Type="http://schemas.openxmlformats.org/officeDocument/2006/relationships/image" Target="../media/image56.jpeg"/><Relationship Id="rId12" Type="http://schemas.openxmlformats.org/officeDocument/2006/relationships/hyperlink" Target="http://images.google.com/imgres?imgurl=http://img.alibaba.com/photo/11160832/Wrought_Iron_Swirl_Candelabra.jpg&amp;imgrefurl=http://www.alibaba.com/catalog/11160832/Wrought_Iron_Swirl_Candelabra.html&amp;usg=__szQMvPMlXQnTPiZluMVGPfRygVE=&amp;h=349&amp;w=420&amp;sz=32&amp;hl=en&amp;start=130&amp;tbnid=aCmOVCJV3ikbAM:&amp;tbnh=104&amp;tbnw=125&amp;prev=/images?q=swirl&amp;start=120&amp;gbv=2&amp;ndsp=20&amp;hl=en&amp;sa=N" TargetMode="External"/><Relationship Id="rId13" Type="http://schemas.openxmlformats.org/officeDocument/2006/relationships/image" Target="../media/image57.jpeg"/><Relationship Id="rId1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37.xml"/><Relationship Id="rId3" Type="http://schemas.openxmlformats.org/officeDocument/2006/relationships/slide" Target="slide68.xml"/><Relationship Id="rId4" Type="http://schemas.openxmlformats.org/officeDocument/2006/relationships/slide" Target="slide103.xml"/><Relationship Id="rId5" Type="http://schemas.openxmlformats.org/officeDocument/2006/relationships/slide" Target="slide121.xml"/><Relationship Id="rId6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exingtonprosecutor.com/images/DARE.jpg&amp;imgrefurl=http://www.lexingtonprosecutor.com/d_a_r_e.htm&amp;usg=___4T8VHoiQD2-wwnETSi11viiNdY=&amp;h=738&amp;w=493&amp;sz=38&amp;hl=en&amp;start=2&amp;tbnid=72m57omTvFxiSM:&amp;tbnh=141&amp;tbnw=94&amp;prev=/images?q=dare&amp;gbv=2&amp;hl=en" TargetMode="External"/><Relationship Id="rId2" Type="http://schemas.openxmlformats.org/officeDocument/2006/relationships/image" Target="../media/image58.jpeg"/><Relationship Id="rId3" Type="http://schemas.openxmlformats.org/officeDocument/2006/relationships/hyperlink" Target="http://images.google.com/imgres?imgurl=http://www.ridemetrobus.com/img/media/Farebox.jpg&amp;imgrefurl=http://www.ridemetrobus.com/fixedroute/fares/&amp;usg=__shFiAqnIb7K0RVT4FFmAxl1tM5o=&amp;h=400&amp;w=300&amp;sz=28&amp;hl=en&amp;start=3&amp;tbnid=x1LAgIaQu1Q7FM:&amp;tbnh=124&amp;tbnw=93&amp;prev=/images?q=fare&amp;gbv=2&amp;hl=en" TargetMode="External"/><Relationship Id="rId4" Type="http://schemas.openxmlformats.org/officeDocument/2006/relationships/image" Target="../media/image59.jpeg"/><Relationship Id="rId5" Type="http://schemas.openxmlformats.org/officeDocument/2006/relationships/hyperlink" Target="http://images.google.com/imgres?imgurl=http://www.zoologi.no/patlas/images/hare-BP.jpg&amp;imgrefurl=http://www.city-data.com/forum/relationships/243428-would-you-date-woman-who-hare-3.html&amp;usg=__W9MHPgdAn2BNwqLJopozCnsMEi0=&amp;h=505&amp;w=600&amp;sz=51&amp;hl=en&amp;start=1&amp;tbnid=y7ujfA55jGPr3M:&amp;tbnh=114&amp;tbnw=135&amp;prev=/images?q=hare&amp;gbv=2&amp;hl=en" TargetMode="External"/><Relationship Id="rId6" Type="http://schemas.openxmlformats.org/officeDocument/2006/relationships/image" Target="../media/image60.jpeg"/><Relationship Id="rId7" Type="http://schemas.openxmlformats.org/officeDocument/2006/relationships/hyperlink" Target="http://images.google.com/imgres?imgurl=http://www.kulacrosse.com/clipartstable/subs/mares+foals/mare+foal.gif&amp;imgrefurl=http://www.kulacrosse.com/clipartstable/subs/mares+foals/index.html&amp;usg=__EzEKal_uR1_bl1hI1hsM92Y7fEI=&amp;h=600&amp;w=721&amp;sz=14&amp;hl=en&amp;start=8&amp;tbnid=TK_4PLY9ZARnqM:&amp;tbnh=117&amp;tbnw=140&amp;prev=/images?q=mare&amp;gbv=2&amp;ndsp=20&amp;hl=en&amp;sa=N" TargetMode="External"/><Relationship Id="rId8" Type="http://schemas.openxmlformats.org/officeDocument/2006/relationships/image" Target="../media/image61.jpeg"/><Relationship Id="rId9" Type="http://schemas.openxmlformats.org/officeDocument/2006/relationships/hyperlink" Target="http://images.google.com/imgres?imgurl=http://z.about.com/d/moroccanfood/1/0/Y/1/-/-/artichoke-bottoms-peel-base.JPG&amp;imgrefurl=http://moroccanfood.about.com/od/tipsandtechniques/ss/artichoke_clean_5.htm&amp;usg=__7HhIt62vDkO8YedGsMCCu6vt9m8=&amp;h=490&amp;w=368&amp;sz=44&amp;hl=en&amp;start=82&amp;tbnid=fWAiPEjcy-XdZM:&amp;tbnh=130&amp;tbnw=98&amp;prev=/images?q=pare&amp;gbv=2&amp;ndsp=20&amp;hl=en&amp;sa=N&amp;start=80" TargetMode="External"/><Relationship Id="rId10" Type="http://schemas.openxmlformats.org/officeDocument/2006/relationships/image" Target="../media/image62.jpeg"/><Relationship Id="rId11" Type="http://schemas.openxmlformats.org/officeDocument/2006/relationships/hyperlink" Target="http://images.google.com/imgres?imgurl=http://www.ryenats.org.uk/trips/smtarefl.jpg&amp;imgrefurl=http://www.ryenats.org.uk/trips/23_july.htm&amp;usg=__7S93iJpZl8R_rYU_LI510oUzXRU=&amp;h=365&amp;w=282&amp;sz=21&amp;hl=en&amp;start=7&amp;tbnid=dRQMfe05zGVZNM:&amp;tbnh=121&amp;tbnw=93&amp;prev=/images?q=tare&amp;gbv=2&amp;hl=en" TargetMode="External"/><Relationship Id="rId12" Type="http://schemas.openxmlformats.org/officeDocument/2006/relationships/image" Target="../media/image63.jpeg"/><Relationship Id="rId13" Type="http://schemas.openxmlformats.org/officeDocument/2006/relationships/hyperlink" Target="http://images.google.com/imgres?imgurl=http://www.thepotteries.org/allpotters/wood_sons/beryl_ware.jpg&amp;imgrefurl=http://www.thepotteries.org/ware/wood_sons/index.htm&amp;usg=__3Tx9yuc_YNUnjvyFRB12T8UXf58=&amp;h=274&amp;w=401&amp;sz=11&amp;hl=en&amp;start=20&amp;tbnid=jW0hWuQkFpVfhM:&amp;tbnh=85&amp;tbnw=124&amp;prev=/images?q=ware&amp;gbv=2&amp;hl=en" TargetMode="External"/><Relationship Id="rId14" Type="http://schemas.openxmlformats.org/officeDocument/2006/relationships/image" Target="../media/image64.jpeg"/><Relationship Id="rId15" Type="http://schemas.openxmlformats.org/officeDocument/2006/relationships/hyperlink" Target="http://images.google.com/imgres?imgurl=http://www.seahouseslifeboat.org.uk/images/Red%20Hand%20Flare%201.gif&amp;imgrefurl=http://www.seahouseslifeboat.org.uk/Pages/flares.htm&amp;usg=__b9psAQUcrBzgTrtxl5iZ0WHWdiA=&amp;h=504&amp;w=436&amp;sz=132&amp;hl=en&amp;start=4&amp;tbnid=vgjsMVGgX-ZdfM:&amp;tbnh=130&amp;tbnw=112&amp;prev=/images?q=flare&amp;gbv=2&amp;hl=en" TargetMode="External"/><Relationship Id="rId16" Type="http://schemas.openxmlformats.org/officeDocument/2006/relationships/image" Target="../media/image65.jpeg"/><Relationship Id="rId17" Type="http://schemas.openxmlformats.org/officeDocument/2006/relationships/hyperlink" Target="http://images.google.com/imgres?imgurl=http://www.osha.gov/SLTC/etools/computerworkstations/images/env_glare.jpg&amp;imgrefurl=http://www.osha.gov/SLTC/etools/computerworkstations/wkstation_enviro.html&amp;usg=__HzY5tBh2Lh5f4zN1MllnPZ3jCM4=&amp;h=214&amp;w=200&amp;sz=13&amp;hl=en&amp;start=17&amp;tbnid=eIT0oYRfPvU3jM:&amp;tbnh=106&amp;tbnw=99&amp;prev=/images?q=glare&amp;gbv=2&amp;hl=en" TargetMode="External"/><Relationship Id="rId18" Type="http://schemas.openxmlformats.org/officeDocument/2006/relationships/image" Target="../media/image66.jpeg"/><Relationship Id="rId19" Type="http://schemas.openxmlformats.org/officeDocument/2006/relationships/hyperlink" Target="http://images.google.com/imgres?imgurl=http://www.gretschdrums.com/pics/series/snare_series.jpg&amp;imgrefurl=http://www.gretschdrums.com/?fa=snares&amp;usg=__mwaXTcb0YbkV23v0gYu80CRe7Mw=&amp;h=262&amp;w=288&amp;sz=52&amp;hl=en&amp;start=20&amp;tbnid=eDVEMZn0GTi9yM:&amp;tbnh=105&amp;tbnw=115&amp;prev=/images?q=snare&amp;gbv=2&amp;hl=en" TargetMode="External"/><Relationship Id="rId20" Type="http://schemas.openxmlformats.org/officeDocument/2006/relationships/image" Target="../media/image67.jpeg"/><Relationship Id="rId21" Type="http://schemas.openxmlformats.org/officeDocument/2006/relationships/hyperlink" Target="http://images.google.com/imgres?imgurl=http://zwolle.snempaa.nl/oud/MakeshiftArsenal/snare.jpg&amp;imgrefurl=http://zwolle.snempaa.nl/oud/MakeshiftArsenal/&amp;usg=__FGg3RZyk7rxpA9OrFqOhwv6XKis=&amp;h=242&amp;w=259&amp;sz=11&amp;hl=en&amp;start=11&amp;tbnid=BnanuqaPKNEukM:&amp;tbnh=105&amp;tbnw=112&amp;prev=/images?q=snare+trap&amp;gbv=2&amp;hl=en" TargetMode="External"/><Relationship Id="rId22" Type="http://schemas.openxmlformats.org/officeDocument/2006/relationships/image" Target="../media/image68.jpeg"/><Relationship Id="rId23" Type="http://schemas.openxmlformats.org/officeDocument/2006/relationships/hyperlink" Target="http://images.google.com/imgres?imgurl=http://z.about.com/d/trucks/1/0/B/A/05_h2sut_spare.jpg&amp;imgrefurl=http://trucks.about.com/library/photo/bl_05_h2sut_gal_09.htm&amp;usg=__zV2gNRePnSDaGHEPVRF87IxMi5M=&amp;h=375&amp;w=375&amp;sz=27&amp;hl=en&amp;start=3&amp;tbnid=dYEp4c1cAGiQVM:&amp;tbnh=122&amp;tbnw=122&amp;prev=/images?q=spare&amp;gbv=2&amp;hl=en" TargetMode="External"/><Relationship Id="rId24" Type="http://schemas.openxmlformats.org/officeDocument/2006/relationships/image" Target="../media/image69.jpeg"/><Relationship Id="rId25" Type="http://schemas.openxmlformats.org/officeDocument/2006/relationships/hyperlink" Target="http://images.google.com/imgres?imgurl=http://www.bbc.co.uk/comedy/theoffice/characters/images/gareth_stare_1024.jpg&amp;imgrefurl=http://www.ameliasmagazine.com/amelias_blog/music/live/index.php?page=20&amp;usg=__F1IkiWNBbwq7nQNse3JwF_pVbZY=&amp;h=768&amp;w=1024&amp;sz=152&amp;hl=en&amp;start=4&amp;tbnid=VKDyHt2MwTq7CM:&amp;tbnh=113&amp;tbnw=150&amp;prev=/images?q=stare&amp;gbv=2&amp;hl=en" TargetMode="External"/><Relationship Id="rId26" Type="http://schemas.openxmlformats.org/officeDocument/2006/relationships/image" Target="../media/image70.jpeg"/><Relationship Id="rId27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38040"/>
            <a:ext cx="807696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How do changes in the weather affect us?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400"/>
            </a:br>
            <a:r>
              <a:rPr b="0" i="1" lang="en-US" sz="2400" spc="-1" strike="noStrike">
                <a:solidFill>
                  <a:srgbClr val="ffc000"/>
                </a:solidFill>
                <a:latin typeface="Tahoma"/>
              </a:rPr>
              <a:t>Click to listen to story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26" descr="Helen Keller"/>
          <p:cNvPicPr/>
          <p:nvPr/>
        </p:nvPicPr>
        <p:blipFill>
          <a:blip r:embed="rId1"/>
          <a:stretch/>
        </p:blipFill>
        <p:spPr>
          <a:xfrm>
            <a:off x="3444840" y="2016000"/>
            <a:ext cx="2581200" cy="399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0176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Helen Keller &amp; the Big Storm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onday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523880" y="2362320"/>
          <a:ext cx="6096240" cy="37004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70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magine that it is a </a:t>
                      </a:r>
                      <a:r>
                        <a:rPr b="1" lang="en-US" sz="32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warm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32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pleasant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day.  Most people feel </a:t>
                      </a:r>
                      <a:r>
                        <a:rPr b="1" lang="en-US" sz="32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great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on days like this.  How do changes in the weather affect u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Adverbs that Tell Ho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nk of adverbs that tell how Helen did each of these actions the day of the big stor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eath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uch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i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Wrap Up Your Day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ct and Opin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ue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Talk About 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morrow they will learn about something that is all around them but they cannot se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6374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Helen Keller &amp; the Big Storm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3000" spc="-1" strike="noStrike">
                <a:solidFill>
                  <a:srgbClr val="ffffcc"/>
                </a:solidFill>
                <a:latin typeface="Tahoma"/>
              </a:rPr>
              <a:t>Wednesday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37160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rite a descriptive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ragraph about wind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Helen Keller &amp; the Big Storm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ursday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1371600" y="228600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day we will read about wind.  It</a:t>
                      </a:r>
                      <a:r>
                        <a:rPr b="1" lang="ja-JP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’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 true that wind helps kites and balloons fly, but wind can also be spooky.  When can wind be frightening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Helen Keller &amp; the Big Storm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ursday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1371600" y="228600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day we will read about wind.  It</a:t>
                      </a:r>
                      <a:r>
                        <a:rPr b="1" lang="ja-JP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’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 </a:t>
                      </a: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true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that wind helps kites and </a:t>
                      </a: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balloons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fly, but wind can also be </a:t>
                      </a: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spooky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 When can wind be frightening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Today we will learn about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wel patterns oo, ue, ew, u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erbs That Tell H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aking We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Helen Keller &amp; the Big Stor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3124080" y="1447920"/>
          <a:ext cx="3559320" cy="4614840"/>
        </p:xfrm>
        <a:graphic>
          <a:graphicData uri="http://schemas.openxmlformats.org/drawingml/2006/table">
            <a:tbl>
              <a:tblPr/>
              <a:tblGrid>
                <a:gridCol w="3559320"/>
              </a:tblGrid>
              <a:tr h="4642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di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di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rrify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ree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hi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ar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unn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wir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wister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ahoma"/>
              </a:rPr>
              <a:t>Read-Aloud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Sentence Read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e found the very old book downtow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e will look around together, even though you did to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id you learn to play football with the scout troop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Sentence Read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brown sugar for the pudding was gon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ok how often they push and pull that car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ow many pieces of fruit did you put down there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1" dur="indefinite" restart="never" nodeType="tmRoot">
          <p:childTnLst>
            <p:seq>
              <p:cTn id="1122" dur="indefinite" nodeType="mainSeq">
                <p:childTnLst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Today we will learn about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wel Patterns oo, ue, ew, u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ct and Opin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k Ques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erbs That Tell H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Helen Keller &amp; the Big Stor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609480" y="1600200"/>
          <a:ext cx="2438640" cy="4572000"/>
        </p:xfrm>
        <a:graphic>
          <a:graphicData uri="http://schemas.openxmlformats.org/drawingml/2006/table">
            <a:tbl>
              <a:tblPr/>
              <a:tblGrid>
                <a:gridCol w="2438640"/>
              </a:tblGrid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Word Famil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a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ap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ar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ar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1" name=""/>
          <p:cNvGraphicFramePr/>
          <p:nvPr/>
        </p:nvGraphicFramePr>
        <p:xfrm>
          <a:off x="3505320" y="1295280"/>
          <a:ext cx="5311800" cy="5261040"/>
        </p:xfrm>
        <a:graphic>
          <a:graphicData uri="http://schemas.openxmlformats.org/drawingml/2006/table">
            <a:tbl>
              <a:tblPr/>
              <a:tblGrid>
                <a:gridCol w="5311800"/>
              </a:tblGrid>
              <a:tr h="5290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o               cl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w             juic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uit            dre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lue            fle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rue            </a:t>
                      </a:r>
                      <a:r>
                        <a:rPr b="1" lang="en-US" sz="3200" spc="-1" strike="noStrike">
                          <a:solidFill>
                            <a:srgbClr val="be7960"/>
                          </a:solidFill>
                          <a:latin typeface="Tahoma"/>
                        </a:rPr>
                        <a:t>crui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ol            </a:t>
                      </a:r>
                      <a:r>
                        <a:rPr b="1" lang="en-US" sz="3200" spc="-1" strike="noStrike">
                          <a:solidFill>
                            <a:srgbClr val="be7960"/>
                          </a:solidFill>
                          <a:latin typeface="Tahoma"/>
                        </a:rPr>
                        <a:t>nephe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it             </a:t>
                      </a:r>
                      <a:r>
                        <a:rPr b="1" lang="en-US" sz="3200" spc="-1" strike="noStrike">
                          <a:solidFill>
                            <a:srgbClr val="be7960"/>
                          </a:solidFill>
                          <a:latin typeface="Tahoma"/>
                        </a:rPr>
                        <a:t>shampo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o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Word Family Word –star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295280" y="1523880"/>
          <a:ext cx="6535800" cy="5048280"/>
        </p:xfrm>
        <a:graphic>
          <a:graphicData uri="http://schemas.openxmlformats.org/drawingml/2006/table">
            <a:tbl>
              <a:tblPr/>
              <a:tblGrid>
                <a:gridCol w="2178000"/>
                <a:gridCol w="2179800"/>
                <a:gridCol w="217800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19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g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j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c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p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Word Family Word – sta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5" name="Picture 2" descr="http://tbn1.google.com/images?q=tbn:43L5VKCqposdBM:http://farm4.static.flickr.com/3216/2958518330_085c4b6c5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752480"/>
            <a:ext cx="2021040" cy="15242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http://tbn3.google.com/images?q=tbn:65obEVh-V_P-BM:http://ec.europa.eu/enterprise/regulation/goods/images/car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24080" y="1752480"/>
            <a:ext cx="1322640" cy="15242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6" descr="http://tbn3.google.com/images?q=tbn:vH2z4yOnkV-8ZM:http://www.iobis.org/images_new/ILAlligatorGar.jpg"/>
          <p:cNvPicPr/>
          <p:nvPr/>
        </p:nvPicPr>
        <p:blipFill>
          <a:blip r:embed="rId5"/>
          <a:stretch/>
        </p:blipFill>
        <p:spPr>
          <a:xfrm>
            <a:off x="4800600" y="1828800"/>
            <a:ext cx="1932120" cy="13716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8" descr="http://tbn3.google.com/images?q=tbn:DMmLcy8birsjGM:http://www.global-b2b-network.com/direct/dbimage/50320553/Glass_Cookie_Jar_with_Aluminum_Lid_and_Decal.jpg"/>
          <p:cNvPicPr/>
          <p:nvPr/>
        </p:nvPicPr>
        <p:blipFill>
          <a:blip r:embed="rId6"/>
          <a:stretch/>
        </p:blipFill>
        <p:spPr>
          <a:xfrm>
            <a:off x="7086600" y="1828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0" descr="http://tbn0.google.com/images?q=tbn:j1qMWHShsN_GfM:http://nintharticle.com/tar-kettle1.jpg"/>
          <p:cNvPicPr/>
          <p:nvPr/>
        </p:nvPicPr>
        <p:blipFill>
          <a:blip r:embed="rId7"/>
          <a:stretch/>
        </p:blipFill>
        <p:spPr>
          <a:xfrm>
            <a:off x="1143000" y="4343400"/>
            <a:ext cx="1722600" cy="16765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2" descr="http://tbn0.google.com/images?q=tbn:hQC4STuw4h7l5M:http://orbit.unh.edu/cancer/NeckScar.gif"/>
          <p:cNvPicPr/>
          <p:nvPr/>
        </p:nvPicPr>
        <p:blipFill>
          <a:blip r:embed="rId8"/>
          <a:stretch/>
        </p:blipFill>
        <p:spPr>
          <a:xfrm>
            <a:off x="3505320" y="4343400"/>
            <a:ext cx="2171520" cy="14479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4" descr="http://tbn0.google.com/images?q=tbn:dmG8ihI2RrefaM:http://www.devonenergy.com/SiteCollectionImages/Newsroom/Nansen_spar_aerial_1_300dpi.jpg"/>
          <p:cNvPicPr/>
          <p:nvPr/>
        </p:nvPicPr>
        <p:blipFill>
          <a:blip r:embed="rId9"/>
          <a:stretch/>
        </p:blipFill>
        <p:spPr>
          <a:xfrm>
            <a:off x="6172200" y="4343400"/>
            <a:ext cx="2171880" cy="1447920"/>
          </a:xfrm>
          <a:prstGeom prst="rect">
            <a:avLst/>
          </a:prstGeom>
          <a:ln w="0">
            <a:noFill/>
          </a:ln>
        </p:spPr>
      </p:pic>
      <p:sp>
        <p:nvSpPr>
          <p:cNvPr id="422" name="TextBox 9"/>
          <p:cNvSpPr/>
          <p:nvPr/>
        </p:nvSpPr>
        <p:spPr>
          <a:xfrm>
            <a:off x="1236240" y="3276720"/>
            <a:ext cx="80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b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Box 10"/>
          <p:cNvSpPr/>
          <p:nvPr/>
        </p:nvSpPr>
        <p:spPr>
          <a:xfrm>
            <a:off x="3451680" y="3276720"/>
            <a:ext cx="69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c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Box 11"/>
          <p:cNvSpPr/>
          <p:nvPr/>
        </p:nvSpPr>
        <p:spPr>
          <a:xfrm>
            <a:off x="5351400" y="3200400"/>
            <a:ext cx="74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g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Box 12"/>
          <p:cNvSpPr/>
          <p:nvPr/>
        </p:nvSpPr>
        <p:spPr>
          <a:xfrm>
            <a:off x="7497360" y="3200400"/>
            <a:ext cx="61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j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Box 13"/>
          <p:cNvSpPr/>
          <p:nvPr/>
        </p:nvSpPr>
        <p:spPr>
          <a:xfrm>
            <a:off x="1696680" y="6019920"/>
            <a:ext cx="6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t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Box 14"/>
          <p:cNvSpPr/>
          <p:nvPr/>
        </p:nvSpPr>
        <p:spPr>
          <a:xfrm>
            <a:off x="4069440" y="5791320"/>
            <a:ext cx="8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sc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Box 15"/>
          <p:cNvSpPr/>
          <p:nvPr/>
        </p:nvSpPr>
        <p:spPr>
          <a:xfrm>
            <a:off x="6731280" y="5791320"/>
            <a:ext cx="97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sp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5" descr="Student Pages"/>
          <p:cNvPicPr/>
          <p:nvPr/>
        </p:nvPicPr>
        <p:blipFill>
          <a:blip r:embed="rId1"/>
          <a:stretch/>
        </p:blipFill>
        <p:spPr>
          <a:xfrm>
            <a:off x="152280" y="307800"/>
            <a:ext cx="8763120" cy="618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5" descr="Student Pages"/>
          <p:cNvPicPr/>
          <p:nvPr/>
        </p:nvPicPr>
        <p:blipFill>
          <a:blip r:embed="rId1"/>
          <a:stretch/>
        </p:blipFill>
        <p:spPr>
          <a:xfrm>
            <a:off x="152280" y="299880"/>
            <a:ext cx="8839440" cy="625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ahoma"/>
              </a:rPr>
              <a:t>Daily Fix-It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he wind blue down a tree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e7960"/>
                </a:solidFill>
                <a:latin typeface="Tahoma"/>
              </a:rPr>
              <a:t>The wind blew down a tree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did pam go home today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e7960"/>
                </a:solidFill>
                <a:latin typeface="Tahoma"/>
              </a:rPr>
              <a:t>Did Pam go home today?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Adverbs that Tell Ho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adverb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ells more about a ver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adverbs tell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how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 action is do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erbs that tell how usually end in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–l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peaking Wel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380880" y="1600200"/>
          <a:ext cx="8305920" cy="5029200"/>
        </p:xfrm>
        <a:graphic>
          <a:graphicData uri="http://schemas.openxmlformats.org/drawingml/2006/table">
            <a:tbl>
              <a:tblPr/>
              <a:tblGrid>
                <a:gridCol w="4191120"/>
                <a:gridCol w="4114800"/>
              </a:tblGrid>
              <a:tr h="111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Speaker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Listeners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1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 expressive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se complete sentence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void vocal pauses and repetitive word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se appropriate voice level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peaking Wel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380880" y="1600200"/>
          <a:ext cx="8305920" cy="5029200"/>
        </p:xfrm>
        <a:graphic>
          <a:graphicData uri="http://schemas.openxmlformats.org/drawingml/2006/table">
            <a:tbl>
              <a:tblPr/>
              <a:tblGrid>
                <a:gridCol w="4191120"/>
                <a:gridCol w="4114800"/>
              </a:tblGrid>
              <a:tr h="111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Speaker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Listeners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1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 expressive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se complete sentence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void vocal pauses and repetitive word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se appropriate voice level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Sit quietly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Face the speaker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Listen to what the speaker say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Wrap Up Your Day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ing Conne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Talk About 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have read about changes that occur in the natural world.  Tomorrow we will learn more about this topi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nodeType="clickEffect" fill="hold">
                      <p:stCondLst>
                        <p:cond delay="indefinite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  <a:ea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676520" y="2895480"/>
          <a:ext cx="6095880" cy="10670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Helen Keller &amp; the Big Storm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500" spc="-1" strike="noStrike">
                <a:solidFill>
                  <a:srgbClr val="ffffcc"/>
                </a:solidFill>
                <a:latin typeface="Tahoma"/>
              </a:rPr>
              <a:t>Thursday</a:t>
            </a:r>
            <a:r>
              <a:rPr b="1" lang="en-US" sz="35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5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1600200" y="24382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ist sights and sounds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f a storm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Helen Keller &amp; the Big Storm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riday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1447920" y="220968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is week we read about winter and wind.  The weather affects us in both good and bad ways.  Why is predicting the weather an important job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Today we will learn about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wel Patterns oo, ue, ew, u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cabulary Wo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-frequency Wo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erbs That Tell H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oosing Appropriate Reference Sour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Helen Keller &amp; the Big Stor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3124080" y="1447920"/>
          <a:ext cx="3559320" cy="4614840"/>
        </p:xfrm>
        <a:graphic>
          <a:graphicData uri="http://schemas.openxmlformats.org/drawingml/2006/table">
            <a:tbl>
              <a:tblPr/>
              <a:tblGrid>
                <a:gridCol w="3559320"/>
              </a:tblGrid>
              <a:tr h="4642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di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di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rrify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ree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hi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ar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unn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wir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wister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ahoma"/>
              </a:rPr>
              <a:t>Read-Aloud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Vowel Patterns for  /u/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e grew the fruit for this juic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e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grew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the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fruit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for this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juic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id the owl hoot when the wind blew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id the owl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hoot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when the wind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blew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y new bruise was black and blu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y new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bruis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was black and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blu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goose flew over the zo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goos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flew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over the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zoo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nodeType="clickEffect" fill="hold">
                      <p:stCondLst>
                        <p:cond delay="indefinite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nodeType="clickEffect" fill="hold">
                      <p:stCondLst>
                        <p:cond delay="indefinite"/>
                      </p:stCondLst>
                      <p:childTnLst>
                        <p:par>
                          <p:cTn id="1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Helen Keller &amp; the Big Stor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609480" y="1600200"/>
          <a:ext cx="2438640" cy="4572000"/>
        </p:xfrm>
        <a:graphic>
          <a:graphicData uri="http://schemas.openxmlformats.org/drawingml/2006/table">
            <a:tbl>
              <a:tblPr/>
              <a:tblGrid>
                <a:gridCol w="2438640"/>
              </a:tblGrid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Word Famil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a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ap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ar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ar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5" name=""/>
          <p:cNvGraphicFramePr/>
          <p:nvPr/>
        </p:nvGraphicFramePr>
        <p:xfrm>
          <a:off x="3505320" y="1295280"/>
          <a:ext cx="5311800" cy="5261040"/>
        </p:xfrm>
        <a:graphic>
          <a:graphicData uri="http://schemas.openxmlformats.org/drawingml/2006/table">
            <a:tbl>
              <a:tblPr/>
              <a:tblGrid>
                <a:gridCol w="5311800"/>
              </a:tblGrid>
              <a:tr h="5290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o               cl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w             juic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uit            dre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lue            fle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rue            </a:t>
                      </a:r>
                      <a:r>
                        <a:rPr b="1" lang="en-US" sz="3200" spc="-1" strike="noStrike">
                          <a:solidFill>
                            <a:srgbClr val="be7960"/>
                          </a:solidFill>
                          <a:latin typeface="Tahoma"/>
                        </a:rPr>
                        <a:t>crui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ol            </a:t>
                      </a:r>
                      <a:r>
                        <a:rPr b="1" lang="en-US" sz="3200" spc="-1" strike="noStrike">
                          <a:solidFill>
                            <a:srgbClr val="be7960"/>
                          </a:solidFill>
                          <a:latin typeface="Tahoma"/>
                        </a:rPr>
                        <a:t>nephe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it             </a:t>
                      </a:r>
                      <a:r>
                        <a:rPr b="1" lang="en-US" sz="3200" spc="-1" strike="noStrike">
                          <a:solidFill>
                            <a:srgbClr val="be7960"/>
                          </a:solidFill>
                          <a:latin typeface="Tahoma"/>
                        </a:rPr>
                        <a:t>shampo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o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Helen Keller &amp; the Big Stor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2895480" y="990720"/>
          <a:ext cx="3733920" cy="5638680"/>
        </p:xfrm>
        <a:graphic>
          <a:graphicData uri="http://schemas.openxmlformats.org/drawingml/2006/table">
            <a:tbl>
              <a:tblPr/>
              <a:tblGrid>
                <a:gridCol w="3733920"/>
              </a:tblGrid>
              <a:tr h="567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ec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ss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ranch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icn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g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g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u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nt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c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er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Vocabulary Words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pressing, angry, branches, fingers, special, picnic, clung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day is a ____ 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Vocabulary Words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pressing, angry, branches, fingers, special, picnic, clung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day is a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speci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ill ___ and pl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38512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  <a:ea typeface="Times New Roman"/>
              </a:rPr>
              <a:t>condition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con </a:t>
            </a:r>
            <a:r>
              <a:rPr b="0" lang="en-US" sz="3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–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 di </a:t>
            </a:r>
            <a:r>
              <a:rPr b="0" lang="en-US" sz="3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–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 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A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condi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is the way a thing or a person is, such as a weather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condi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or a health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condi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The weather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condi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is warm and rain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I exercise and eat healthy foods so I will stay in good physical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condi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Is your bicycle in good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condi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Vocabulary Words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pressing, angry, branches, fingers, special, picnic, clung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day is a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speci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ill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picni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pl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 the ____ of a tre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Vocabulary Words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pressing, angry, branches, fingers, special, picnic, clung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day is a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speci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ill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picni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pl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 the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branch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a tre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r five ___ tickle m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Vocabulary Words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pressing, angry, branches, fingers, special, picnic, clung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day is a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speci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ill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picni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pl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 the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branch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a tre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r five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finger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ickle m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time to let the ___ ants b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Vocabulary Words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pressing, angry, branches, fingers, special, picnic, clung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day is a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speci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ill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picni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pl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 the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branch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a tre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r five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finger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ickle m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time to let the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angr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ts b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___ to our basket, everyo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Vocabulary Words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pressing, angry, branches, fingers, special, picnic, clung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day is a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speci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ill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picni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pl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 the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branch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a tre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r five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finger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ickle m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time to let the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angr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ts b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clu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 our basket, everyo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, it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Fido, ___ to join the fu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Vocabulary Words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pressing, angry, branches, fingers, special, picnic, clung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day is a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speci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ill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picni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pl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 the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branch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a tre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r five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finger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ickle m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time to let the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angr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ts b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clu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 our basket, everyo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, it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Fido,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press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 join the fu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hyming Word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day is a special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da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ill picnic and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pla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 the branches of a 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tre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r five fingers tickle 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m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time to let the angry ants 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b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lung to our basket, </a:t>
            </a:r>
            <a:r>
              <a:rPr b="1" lang="en-US" sz="3200" spc="-1" strike="noStrike">
                <a:solidFill>
                  <a:srgbClr val="048817"/>
                </a:solidFill>
                <a:latin typeface="Tahoma"/>
              </a:rPr>
              <a:t>everyo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, it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Fido, pressing to join the </a:t>
            </a:r>
            <a:r>
              <a:rPr b="1" lang="en-US" sz="3200" spc="-1" strike="noStrike">
                <a:solidFill>
                  <a:srgbClr val="048817"/>
                </a:solidFill>
                <a:latin typeface="Tahoma"/>
              </a:rPr>
              <a:t>fu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Helen Keller &amp; the Big Stor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3200400" y="1752480"/>
          <a:ext cx="3048120" cy="452916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4553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ea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ft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ie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oug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get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ahoma"/>
              </a:rPr>
              <a:t>Daily Fix-It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ho spill grape jooce on the rug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e7960"/>
                </a:solidFill>
                <a:latin typeface="Tahoma"/>
              </a:rPr>
              <a:t>Who spilled grape juice on the rug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jed filled to bottle with water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e7960"/>
                </a:solidFill>
                <a:latin typeface="Tahoma"/>
              </a:rPr>
              <a:t>Jed filled two bottles with water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1" dur="indefinite" restart="never" nodeType="tmRoot">
          <p:childTnLst>
            <p:seq>
              <p:cTn id="1242" dur="indefinite" nodeType="mainSeq">
                <p:childTnLst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nodeType="clickEffect" fill="hold">
                      <p:stCondLst>
                        <p:cond delay="indefinite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Adverbs that Tell Ho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adverb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ells more about a ver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adverbs tell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how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 action is do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erbs that tell how usually end in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–l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nodeType="clickEffect" fill="hold">
                      <p:stCondLst>
                        <p:cond delay="indefinite"/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38512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  <a:ea typeface="Times New Roman"/>
              </a:rPr>
              <a:t>predic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pre - dic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When you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predict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something, you say what you think will happen in the futur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I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predict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the bus will be lat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What do you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predict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will happen at the end of the story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The weather people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predict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it will rain tomorrow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Reference Sour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re are many different reference sources and that each is used for a special reaso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re is often more than one source that can be used to find information on a subject, such as using an encyclopedia and the internet to find information about a famous person from histor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3" dur="indefinite" restart="never" nodeType="tmRoot">
          <p:childTnLst>
            <p:seq>
              <p:cTn id="1274" dur="indefinite" nodeType="mainSeq">
                <p:childTnLst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Reference Sour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f you want to check the spelling of a word, look in a dictionary or use spell-check on your compute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You can also use the thesaurus on your computer if you are looking for a different word to us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nodeType="clickEffect" fill="hold">
                      <p:stCondLst>
                        <p:cond delay="indefinite"/>
                      </p:stCondLst>
                      <p:childTnLst>
                        <p:par>
                          <p:cTn id="1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Reference Sour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f you want to find out about certain people or places, use an encyclopedia or search on the Interne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You can get information about places in an atlas, which has maps you can use to locate place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nodeType="clickEffect" fill="hold">
                      <p:stCondLst>
                        <p:cond delay="indefinite"/>
                      </p:stCondLst>
                      <p:childTnLst>
                        <p:par>
                          <p:cTn id="1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000"/>
                </a:solidFill>
                <a:latin typeface="Tahoma"/>
              </a:rPr>
              <a:t>Wrap Up Your Week!</a:t>
            </a:r>
            <a:br>
              <a:rPr sz="5400"/>
            </a:b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Let</a:t>
            </a:r>
            <a:r>
              <a:rPr b="0" lang="ja-JP" sz="4000" spc="-1" strike="noStrike">
                <a:solidFill>
                  <a:srgbClr val="ff0000"/>
                </a:solidFill>
                <a:latin typeface="Tahoma"/>
              </a:rPr>
              <a:t>’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s Talk About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Our Changing Worl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Helen Keller &amp; the Big Storm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riday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144792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rite about a weather forecast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cience Leveled Read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rth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Wea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rth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Weather &amp; Seas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Clouds Are Ma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rricanes &amp; Tornado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Tahoma"/>
              </a:rPr>
              <a:t>Helen Keller &amp; the Big Storm</a:t>
            </a:r>
            <a:r>
              <a:rPr b="1" lang="en-US" sz="4400" spc="-1" strike="noStrike">
                <a:solidFill>
                  <a:srgbClr val="ffc000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elated Links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838080" y="2286000"/>
          <a:ext cx="6705720" cy="3505320"/>
        </p:xfrm>
        <a:graphic>
          <a:graphicData uri="http://schemas.openxmlformats.org/drawingml/2006/table">
            <a:tbl>
              <a:tblPr/>
              <a:tblGrid>
                <a:gridCol w="6705720"/>
              </a:tblGrid>
              <a:tr h="352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nited Streaming  Helen Keller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tween The Lion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ideo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omophone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elen Keller Video clip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act and Opinion G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vy Green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Verdana"/>
              </a:rPr>
              <a:t>We are now ready to 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Verdana"/>
              </a:rPr>
              <a:t>take our story tests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2057040" y="232704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Story t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lassroom webpag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Student page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  <a:ea typeface="Arial"/>
              </a:rPr>
              <a:t>Taking Te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Other Reading Quizz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Quiz # 90462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38512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  <a:ea typeface="Times New Roman"/>
              </a:rPr>
              <a:t>terrifying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ter </a:t>
            </a:r>
            <a:r>
              <a:rPr b="0" lang="en-US" sz="3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–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 ri </a:t>
            </a:r>
            <a:r>
              <a:rPr b="0" lang="en-US" sz="3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–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 fy </a:t>
            </a:r>
            <a:r>
              <a:rPr b="0" lang="en-US" sz="3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–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 ing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If something is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terrifying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, it makes someone feel very frightene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The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terrifying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winds of the hurricane made us seek shelte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The grizzly bear was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terrifying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to the camper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2666880" cy="44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lick to listen to a song about changes in weather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2" name="Picture 2" descr="Changing Conditions"/>
          <p:cNvPicPr/>
          <p:nvPr/>
        </p:nvPicPr>
        <p:blipFill>
          <a:blip r:embed="rId1"/>
          <a:srcRect l="0" t="0" r="0" b="18183"/>
          <a:stretch/>
        </p:blipFill>
        <p:spPr>
          <a:xfrm>
            <a:off x="3309840" y="228600"/>
            <a:ext cx="53769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Vowel Patterns for /u/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foo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at do you know about the vowel sound in foot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oday we</a:t>
            </a:r>
            <a:r>
              <a:rPr b="0" lang="ja-JP" sz="36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l learn about vowel pairs that stand for the sound /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u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/, and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oo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is one of the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200040" y="152280"/>
            <a:ext cx="53341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 letters ew, ue, and ui can stand for the vowel sound in mo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re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re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l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i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ui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rui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/oo/ makes the vowel sound in moon or in book. Context provides the clue to pronuncia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oo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o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Content Placeholder 6" descr="card 37.jpg"/>
          <p:cNvPicPr/>
          <p:nvPr/>
        </p:nvPicPr>
        <p:blipFill>
          <a:blip r:embed="rId1"/>
          <a:stretch/>
        </p:blipFill>
        <p:spPr>
          <a:xfrm>
            <a:off x="380880" y="160200"/>
            <a:ext cx="2514600" cy="651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Vowel Patterns for /u/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etters oo stand for the /u/ sound in foo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l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etters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o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moon, 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u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blue, and 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ew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few stand for the sound /u/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99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88720" y="2263680"/>
            <a:ext cx="677052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Verdana"/>
              </a:rPr>
              <a:t>Small Group</a:t>
            </a:r>
            <a:r>
              <a:rPr b="1" lang="en-US" sz="5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5400" spc="-1" strike="noStrike" u="sng">
                <a:solidFill>
                  <a:srgbClr val="ffcc66"/>
                </a:solidFill>
                <a:uFillTx/>
                <a:latin typeface="Verdana"/>
                <a:hlinkClick r:id="rId1"/>
              </a:rPr>
              <a:t>Timer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owel Patterns for /u/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274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o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29200" y="1600200"/>
            <a:ext cx="3657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u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u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Verdana"/>
              </a:rPr>
              <a:t>Making Word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086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Verdana"/>
                <a:ea typeface="Arial"/>
              </a:rPr>
              <a:t>e, o, o, u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Verdana"/>
                <a:ea typeface="Arial"/>
              </a:rPr>
              <a:t>b, c, h, l, p, r, s, t, w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Vowel Patterns for /u/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274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o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o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29200" y="1600200"/>
            <a:ext cx="3657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lu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jui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hew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u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acco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crui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ug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Helen Keller &amp; the Big Stor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09480" y="1600200"/>
          <a:ext cx="2438640" cy="4572000"/>
        </p:xfrm>
        <a:graphic>
          <a:graphicData uri="http://schemas.openxmlformats.org/drawingml/2006/table">
            <a:tbl>
              <a:tblPr/>
              <a:tblGrid>
                <a:gridCol w="2438640"/>
              </a:tblGrid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Word Famil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a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ap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ar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ar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3505320" y="1295280"/>
          <a:ext cx="5311800" cy="5261040"/>
        </p:xfrm>
        <a:graphic>
          <a:graphicData uri="http://schemas.openxmlformats.org/drawingml/2006/table">
            <a:tbl>
              <a:tblPr/>
              <a:tblGrid>
                <a:gridCol w="5311800"/>
              </a:tblGrid>
              <a:tr h="5290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o               cl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w             juic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uit            dre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lue            fle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rue            </a:t>
                      </a:r>
                      <a:r>
                        <a:rPr b="1" lang="en-US" sz="3200" spc="-1" strike="noStrike">
                          <a:solidFill>
                            <a:srgbClr val="be7960"/>
                          </a:solidFill>
                          <a:latin typeface="Tahoma"/>
                        </a:rPr>
                        <a:t>crui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ol            </a:t>
                      </a:r>
                      <a:r>
                        <a:rPr b="1" lang="en-US" sz="3200" spc="-1" strike="noStrike">
                          <a:solidFill>
                            <a:srgbClr val="be7960"/>
                          </a:solidFill>
                          <a:latin typeface="Tahoma"/>
                        </a:rPr>
                        <a:t>nephe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it             </a:t>
                      </a:r>
                      <a:r>
                        <a:rPr b="1" lang="en-US" sz="3200" spc="-1" strike="noStrike">
                          <a:solidFill>
                            <a:srgbClr val="be7960"/>
                          </a:solidFill>
                          <a:latin typeface="Tahoma"/>
                        </a:rPr>
                        <a:t>shampo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o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Word Family Word – last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219320" y="1751040"/>
          <a:ext cx="6535440" cy="4076640"/>
        </p:xfrm>
        <a:graphic>
          <a:graphicData uri="http://schemas.openxmlformats.org/drawingml/2006/table">
            <a:tbl>
              <a:tblPr/>
              <a:tblGrid>
                <a:gridCol w="2178000"/>
                <a:gridCol w="2179440"/>
                <a:gridCol w="2178000"/>
              </a:tblGrid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s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s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s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s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v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s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s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Word Family Word – las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4" name="Picture 2" descr="http://tbn1.google.com/images?q=tbn:A8-x5KVhiJqe0M:http://meds.queensu.ca/courses/assets/modules/cast-application/cast_types_0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752480"/>
            <a:ext cx="1752480" cy="1320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http://tbn2.google.com/images?q=tbn:HTRuHSzVnLnCRM:http://img.alibaba.com/photo/11115336/Telecom_Tower_Mast_Monopole_BTS_Shelter_OF_Cabling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62520" y="1676520"/>
            <a:ext cx="1752480" cy="2655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http://tbn1.google.com/images?q=tbn:9Z7RumYuVr4VtM:http://www.schonbok.net/joe/images/Endeavour_Mizzen_Mast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77120" y="1676520"/>
            <a:ext cx="1504800" cy="2720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http://tbn2.google.com/images?q=tbn:tT-yZtp-1FYIcM:http://lagallery-frankfurt.de/lagalerie_english_deutsch/l_a_galerie_artists/hatakeyama/blast/5414to5419/Blast_5417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5800" y="3886200"/>
            <a:ext cx="2286000" cy="1523880"/>
          </a:xfrm>
          <a:prstGeom prst="rect">
            <a:avLst/>
          </a:prstGeom>
          <a:ln w="0">
            <a:noFill/>
          </a:ln>
        </p:spPr>
      </p:pic>
      <p:sp>
        <p:nvSpPr>
          <p:cNvPr id="148" name="TextBox 6"/>
          <p:cNvSpPr/>
          <p:nvPr/>
        </p:nvSpPr>
        <p:spPr>
          <a:xfrm>
            <a:off x="1427760" y="3124080"/>
            <a:ext cx="105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c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7"/>
          <p:cNvSpPr/>
          <p:nvPr/>
        </p:nvSpPr>
        <p:spPr>
          <a:xfrm>
            <a:off x="4151880" y="4343400"/>
            <a:ext cx="119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m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6742800" y="4419720"/>
            <a:ext cx="113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m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9"/>
          <p:cNvSpPr/>
          <p:nvPr/>
        </p:nvSpPr>
        <p:spPr>
          <a:xfrm>
            <a:off x="1253520" y="5486400"/>
            <a:ext cx="11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bl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Word Family Word – real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19320" y="1523880"/>
          <a:ext cx="6535440" cy="5048280"/>
        </p:xfrm>
        <a:graphic>
          <a:graphicData uri="http://schemas.openxmlformats.org/drawingml/2006/table">
            <a:tbl>
              <a:tblPr/>
              <a:tblGrid>
                <a:gridCol w="2178000"/>
                <a:gridCol w="2179440"/>
                <a:gridCol w="217800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19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v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Word Family Word – rea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5" name="Picture 2" descr="http://tbn3.google.com/images?q=tbn:0DObIWmKoR-ClM:http://www.dkimages.com/discover/previews/912/5038617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676520"/>
            <a:ext cx="1447560" cy="1736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http://tbn0.google.com/images?q=tbn:RH4A5nF1sKKETM:http://www.bizzia.com/files/198/2008/12/close-the-deal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24080" y="1828800"/>
            <a:ext cx="2156040" cy="1523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http://tbn0.google.com/images?q=tbn:HbjEpAO81fQOVM:http://img4.southernliving.com/i/2005/11/gather-around-table/meal-m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34040" y="17524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http://tbn1.google.com/images?q=tbn:fWc9JAhY-zqyIM:http://www.mcbi.org/what/what_images/monk_seal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990720" y="4265640"/>
            <a:ext cx="1523880" cy="1536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http://tbn0.google.com/images?q=tbn:waNcA5NKvd-yNM:http://www.gelstuff.com/images/beachglass-tealP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29000" y="4343400"/>
            <a:ext cx="1530360" cy="1467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" descr="http://tbn2.google.com/images?q=tbn:vdd-W9JpZc51KM:http://img.timeinc.net/recipes/i/recipes/ck/04/07/veal-piccata-ck-682966-x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867280" y="434340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161" name="TextBox 8"/>
          <p:cNvSpPr/>
          <p:nvPr/>
        </p:nvSpPr>
        <p:spPr>
          <a:xfrm>
            <a:off x="1244520" y="3429000"/>
            <a:ext cx="105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d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Box 9"/>
          <p:cNvSpPr/>
          <p:nvPr/>
        </p:nvSpPr>
        <p:spPr>
          <a:xfrm>
            <a:off x="3683160" y="342900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d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Box 10"/>
          <p:cNvSpPr/>
          <p:nvPr/>
        </p:nvSpPr>
        <p:spPr>
          <a:xfrm>
            <a:off x="6202800" y="3200400"/>
            <a:ext cx="11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m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Box 11"/>
          <p:cNvSpPr/>
          <p:nvPr/>
        </p:nvSpPr>
        <p:spPr>
          <a:xfrm>
            <a:off x="1250640" y="5791320"/>
            <a:ext cx="100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s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Box 12"/>
          <p:cNvSpPr/>
          <p:nvPr/>
        </p:nvSpPr>
        <p:spPr>
          <a:xfrm>
            <a:off x="3763440" y="5791320"/>
            <a:ext cx="95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t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13"/>
          <p:cNvSpPr/>
          <p:nvPr/>
        </p:nvSpPr>
        <p:spPr>
          <a:xfrm>
            <a:off x="6058800" y="579132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v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Fact &amp; Opin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think about 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fe Cycle of a Pumpkin.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some facts we learned about pumpkin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can you prove these are fact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 statement of fact can be proven true orf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opinion cannot  be proven true or fal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Ask Quest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king questions about a selection gives you a purpose for read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also helps you remember the most important parts of the selec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Online Gam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447920"/>
          <a:ext cx="4572000" cy="516240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564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Vocabulary &amp; Amazing Words: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28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ea typeface="Times New Roman"/>
                          <a:hlinkClick r:id="rId1"/>
                        </a:rPr>
                        <a:t>Arcade G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28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ea typeface="Times New Roman"/>
                          <a:hlinkClick r:id="rId2"/>
                        </a:rPr>
                        <a:t>Jig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28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ea typeface="Times New Roman"/>
                          <a:hlinkClick r:id="rId3"/>
                        </a:rPr>
                        <a:t>Match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28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ea typeface="Times New Roman"/>
                          <a:hlinkClick r:id="rId4"/>
                        </a:rPr>
                        <a:t>Speed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28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ea typeface="Times New Roman"/>
                          <a:hlinkClick r:id="rId5"/>
                        </a:rPr>
                        <a:t>Wordsear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28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ea typeface="Times New Roman"/>
                          <a:hlinkClick r:id="rId6"/>
                        </a:rPr>
                        <a:t>Word We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28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ea typeface="Times New Roman"/>
                          <a:hlinkClick r:id="rId7"/>
                        </a:rPr>
                        <a:t>Spelling City – Voc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ea typeface="Times New Roman"/>
                          <a:hlinkClick r:id="rId8"/>
                        </a:rPr>
                        <a:t> Spelling City-Amaz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5257800" y="1600200"/>
          <a:ext cx="3559320" cy="4797360"/>
        </p:xfrm>
        <a:graphic>
          <a:graphicData uri="http://schemas.openxmlformats.org/drawingml/2006/table">
            <a:tbl>
              <a:tblPr/>
              <a:tblGrid>
                <a:gridCol w="3559320"/>
              </a:tblGrid>
              <a:tr h="5048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Spelling Words: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66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28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ea typeface="Times New Roman"/>
                          <a:hlinkClick r:id="rId9"/>
                        </a:rPr>
                        <a:t>Speed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66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28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ea typeface="Times New Roman"/>
                          <a:hlinkClick r:id="rId10"/>
                        </a:rPr>
                        <a:t>Word We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66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28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ea typeface="Times New Roman"/>
                          <a:hlinkClick r:id="rId11"/>
                        </a:rPr>
                        <a:t>Quia</a:t>
                      </a:r>
                      <a:r>
                        <a:rPr b="0" lang="en-US" sz="28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ea typeface="Times New Roman"/>
                          <a:hlinkClick r:id="rId12"/>
                        </a:rPr>
                        <a:t> G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66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28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ea typeface="Times New Roman"/>
                          <a:hlinkClick r:id="rId13"/>
                        </a:rPr>
                        <a:t>Spelling C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High Frequency Words: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  <a:hlinkClick r:id="rId14"/>
                        </a:rPr>
                        <a:t>Spelling City</a:t>
                      </a:r>
                      <a:r>
                        <a:rPr b="0" lang="en-US" sz="28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  <a:hlinkClick r:id="rId15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Student Pages"/>
          <p:cNvPicPr/>
          <p:nvPr/>
        </p:nvPicPr>
        <p:blipFill>
          <a:blip r:embed="rId1"/>
          <a:stretch/>
        </p:blipFill>
        <p:spPr>
          <a:xfrm>
            <a:off x="152280" y="304920"/>
            <a:ext cx="883944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ahoma"/>
              </a:rPr>
              <a:t>Daily Fix-It</a:t>
            </a:r>
            <a:br>
              <a:rPr sz="40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dee wore a blew sweater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e7960"/>
                </a:solidFill>
                <a:latin typeface="Tahoma"/>
              </a:rPr>
              <a:t>Dee wore a blue sweater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ho drue this picture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e7960"/>
                </a:solidFill>
                <a:latin typeface="Tahoma"/>
              </a:rPr>
              <a:t>Who drew this picture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dverbs that Tell Ho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adverb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ells more about a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verb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adverbs tell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how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 action is do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erbs that tell how usually end in </a:t>
            </a:r>
            <a:r>
              <a:rPr b="1" i="1" lang="en-US" sz="3200" spc="-1" strike="noStrike">
                <a:solidFill>
                  <a:srgbClr val="ff9900"/>
                </a:solidFill>
                <a:latin typeface="Tahoma"/>
              </a:rPr>
              <a:t>–l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d saw the dark clouds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clearl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Clearl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ell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how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ad saw the clou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Adverbs that Tell How</a:t>
            </a:r>
            <a:br>
              <a:rPr sz="44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quietly, quickly, loudly, carefully, wildly, suddenly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yone, listen _____ ,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aid D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yone, liste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arefull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aid D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must take shelter _____.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must take shelter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quickl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sat _____ in the base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sat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quietl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the base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Adverbs that Tell How</a:t>
            </a:r>
            <a:br>
              <a:rPr sz="44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quietly, quickly, loudly, carefully, wildly, suddenly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wind blew _____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wind bl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ildl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under boomed ______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under  boomed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loudl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_____ the power went ou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uddenl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power went ou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Wrap Up Your Day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wel patterns /u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ct &amp; Opin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Talk About 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morrow we will read about a special girl who found herself alone in a big stor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Helen Keller &amp; the Big Storm</a:t>
            </a: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onday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523880" y="2362320"/>
          <a:ext cx="6096240" cy="32004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ke a list of weather conditions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Helen Keller &amp; the Big Storm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400"/>
            </a:br>
            <a:r>
              <a:rPr b="0" lang="en-US" sz="3000" spc="-1" strike="noStrike">
                <a:solidFill>
                  <a:srgbClr val="ffffcc"/>
                </a:solidFill>
                <a:latin typeface="Tahoma"/>
              </a:rPr>
              <a:t>Tuesday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676520" y="228600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day we will read about Helen Keller.  Her world was transformed because of an unexpected and terrifying storm.  Have you ever been afraid of a storm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Helen Keller &amp; the Big Storm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400"/>
            </a:br>
            <a:r>
              <a:rPr b="0" lang="en-US" sz="3000" spc="-1" strike="noStrike">
                <a:solidFill>
                  <a:srgbClr val="ffffcc"/>
                </a:solidFill>
                <a:latin typeface="Tahoma"/>
              </a:rPr>
              <a:t>Tuesday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676520" y="228600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day we will read about Helen Keller.  Her world was </a:t>
                      </a: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transformed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because of an </a:t>
                      </a: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unexpected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and </a:t>
                      </a: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terrifying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storm.  Have you ever been afraid of a storm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Today we will learn about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wel patterns oo, ue, ew, u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cabulary Wo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e-Meaning Wo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ext Cl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erbs That Tell H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Helen Keller &amp; the Big Stor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124080" y="1447920"/>
          <a:ext cx="3559320" cy="4614840"/>
        </p:xfrm>
        <a:graphic>
          <a:graphicData uri="http://schemas.openxmlformats.org/drawingml/2006/table">
            <a:tbl>
              <a:tblPr/>
              <a:tblGrid>
                <a:gridCol w="3559320"/>
              </a:tblGrid>
              <a:tr h="4642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di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di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rrify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ree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hi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ar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unn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wir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  <a:ea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676520" y="2895480"/>
          <a:ext cx="6095880" cy="10670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38512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  <a:ea typeface="Times New Roman"/>
              </a:rPr>
              <a:t>breeze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breez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When the wind is not too strong, you feel a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breez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in the ai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A summer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breez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blew through the windows and cooled the hous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The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breez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filled the sails and pushed the boat across the wate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38512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  <a:ea typeface="Times New Roman"/>
              </a:rPr>
              <a:t>whip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whi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If something flaps or moves back and forth, such as a flag on a pole, it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whip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aroun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The flag was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whipping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around in the strong win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The wind began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whipping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the sails of the boa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The breeze started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  <a:ea typeface="Times New Roman"/>
              </a:rPr>
              <a:t>whipp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the sides of the t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38512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  <a:ea typeface="Times New Roman"/>
              </a:rPr>
              <a:t>sparkle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spar - k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If something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sparkle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, it shines or glitter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The clear water was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sparkling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in the sunligh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The ring held a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sparkling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diamond in i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The snow was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sparkling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like glitte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appy Birthday, Old Man Winter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ahoma"/>
              </a:rPr>
              <a:t>Read-Aloud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Vowel Patterns for /u/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ne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can read this word because you know how to read words with the /u/ vowel sou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sound do the letters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ew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tand for in this wor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o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u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Vowel Patterns for /u/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you come to a new word, look at the letters from left to right and think about the vowel soun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y the sounds in the word to yourself, and then read the wor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Vowel Patterns for /u/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grew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o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u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allo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venu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ephew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ursui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kangaro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arbequ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jew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ruis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2666880" cy="44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lick to listen to </a:t>
            </a:r>
            <a:r>
              <a:rPr b="0" lang="ja-JP" sz="40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Blue Skies to Gray.</a:t>
            </a:r>
            <a:r>
              <a:rPr b="0" lang="ja-JP" sz="4000" spc="-1" strike="noStrike">
                <a:solidFill>
                  <a:srgbClr val="ffffcc"/>
                </a:solidFill>
                <a:latin typeface="Tahoma"/>
              </a:rPr>
              <a:t>”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8" name="Picture 2" descr="Phonics Songs and Rhymes Chart 20"/>
          <p:cNvPicPr/>
          <p:nvPr/>
        </p:nvPicPr>
        <p:blipFill>
          <a:blip r:embed="rId1"/>
          <a:srcRect l="0" t="0" r="0" b="8676"/>
          <a:stretch/>
        </p:blipFill>
        <p:spPr>
          <a:xfrm>
            <a:off x="3657600" y="182520"/>
            <a:ext cx="5029200" cy="65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Vowel Patterns for /u/</a:t>
            </a:r>
            <a:br>
              <a:rPr sz="4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Find the words with the /u/ sound in </a:t>
            </a:r>
            <a:r>
              <a:rPr b="0" lang="ja-JP" sz="24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Blue Skies to Grey.</a:t>
            </a:r>
            <a:r>
              <a:rPr b="0" lang="ja-JP" sz="2400" spc="-1" strike="noStrike">
                <a:solidFill>
                  <a:srgbClr val="ffffcc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676520" y="2057400"/>
            <a:ext cx="274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lu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lew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o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ru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rui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8320" y="20574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jui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lew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ui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u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Helen Keller &amp; the Big Stor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895480" y="990720"/>
          <a:ext cx="3733920" cy="5638680"/>
        </p:xfrm>
        <a:graphic>
          <a:graphicData uri="http://schemas.openxmlformats.org/drawingml/2006/table">
            <a:tbl>
              <a:tblPr/>
              <a:tblGrid>
                <a:gridCol w="3733920"/>
              </a:tblGrid>
              <a:tr h="567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ec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ss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ranch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icn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g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g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u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nt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c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er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Verdana"/>
              </a:rPr>
              <a:t>Making Word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086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Verdana"/>
                <a:ea typeface="Arial"/>
              </a:rPr>
              <a:t> </a:t>
            </a:r>
            <a:r>
              <a:rPr b="1" lang="en-US" sz="8000" spc="-1" strike="noStrike">
                <a:solidFill>
                  <a:srgbClr val="ff0000"/>
                </a:solidFill>
                <a:latin typeface="Verdana"/>
                <a:ea typeface="Arial"/>
              </a:rPr>
              <a:t>e, i, o, o, u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Verdana"/>
                <a:ea typeface="Arial"/>
              </a:rPr>
              <a:t>d, f, g, h, l, p, r, s, t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Helen Keller &amp; the Big Stor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609480" y="1600200"/>
          <a:ext cx="2438640" cy="4572000"/>
        </p:xfrm>
        <a:graphic>
          <a:graphicData uri="http://schemas.openxmlformats.org/drawingml/2006/table">
            <a:tbl>
              <a:tblPr/>
              <a:tblGrid>
                <a:gridCol w="2438640"/>
              </a:tblGrid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Word Famil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a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ap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ar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ar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3505320" y="1295280"/>
          <a:ext cx="5311800" cy="5261040"/>
        </p:xfrm>
        <a:graphic>
          <a:graphicData uri="http://schemas.openxmlformats.org/drawingml/2006/table">
            <a:tbl>
              <a:tblPr/>
              <a:tblGrid>
                <a:gridCol w="5311800"/>
              </a:tblGrid>
              <a:tr h="5290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o               cl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w             juic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uit            dre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lue            fle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rue            </a:t>
                      </a:r>
                      <a:r>
                        <a:rPr b="1" lang="en-US" sz="3200" spc="-1" strike="noStrike">
                          <a:solidFill>
                            <a:srgbClr val="be7960"/>
                          </a:solidFill>
                          <a:latin typeface="Tahoma"/>
                        </a:rPr>
                        <a:t>crui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ol            </a:t>
                      </a:r>
                      <a:r>
                        <a:rPr b="1" lang="en-US" sz="3200" spc="-1" strike="noStrike">
                          <a:solidFill>
                            <a:srgbClr val="be7960"/>
                          </a:solidFill>
                          <a:latin typeface="Tahoma"/>
                        </a:rPr>
                        <a:t>nephe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it             </a:t>
                      </a:r>
                      <a:r>
                        <a:rPr b="1" lang="en-US" sz="3200" spc="-1" strike="noStrike">
                          <a:solidFill>
                            <a:srgbClr val="be7960"/>
                          </a:solidFill>
                          <a:latin typeface="Tahoma"/>
                        </a:rPr>
                        <a:t>shampo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o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Verdana"/>
              </a:rPr>
              <a:t>Word Family Word –shape </a:t>
            </a:r>
            <a:r>
              <a:rPr b="0" lang="en-US" sz="1400" spc="-1" strike="noStrike" u="sng">
                <a:solidFill>
                  <a:srgbClr val="ffcc66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219320" y="1751040"/>
          <a:ext cx="6535440" cy="3355920"/>
        </p:xfrm>
        <a:graphic>
          <a:graphicData uri="http://schemas.openxmlformats.org/drawingml/2006/table">
            <a:tbl>
              <a:tblPr/>
              <a:tblGrid>
                <a:gridCol w="2178000"/>
                <a:gridCol w="2179440"/>
                <a:gridCol w="2178000"/>
              </a:tblGrid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g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n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dr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gr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cr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Word Family Word – shap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20" name="Picture 2" descr="http://tbn0.google.com/images?q=tbn:7btMH4TKAXglFM:http://africa.comworldseries.com/__data/assets/image/0003/108543/capetown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523880"/>
            <a:ext cx="1266840" cy="9525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http://tbn2.google.com/images?q=tbn:N0yGYJm97krH2M:http://z.about.com/d/diyfashion/1/0/g/E/-/-/Cap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0" y="1447920"/>
            <a:ext cx="1238400" cy="11811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http://tbn0.google.com/images?q=tbn:6z7QgvstZhSnhM:http://www.zafu.com/roller/resources/blog/waist%2520gape%25203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15000" y="1523880"/>
            <a:ext cx="1143000" cy="1086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http://tbn3.google.com/images?q=tbn:Ng-vbhglADOAdM:http://bp0.blogger.com/_thlFYTjJbmQ/R700simf51I/AAAAAAAAELw/g6RTR2gkgoM/s400/gape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162920" y="1676520"/>
            <a:ext cx="1181160" cy="8762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http://tbn1.google.com/images?q=tbn:M1hN5yZT-7SiWM:http://cm1.theinsider.com/media/0/71/63/nape.0.0.0x0.432x324.jpe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962520" y="1600200"/>
            <a:ext cx="1199880" cy="8953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4" descr="http://tbn2.google.com/images?q=tbn:jjsWo-yjR48ytM:http://www.germes-online.com/direct/dbimage/50100019/Self_Adhesive_Fiberglass_Mesh_Tape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209680" y="380988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6" descr="http://tbn3.google.com/images?q=tbn:-kl_uxr39b9ruM:http://nexus404.com/Blog/wp-content/uploads2/2007/09/cassette-tapes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809880" y="3809880"/>
            <a:ext cx="1114560" cy="1162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8" descr="http://tbn3.google.com/images?q=tbn:C9kjB-Di7JYlqM:http://www.millagent.com/images/102001/drape2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85800" y="3657600"/>
            <a:ext cx="961920" cy="1295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0" descr="http://tbn1.google.com/images?q=tbn:sawJ759vkrK0nM:http://www.germes-online.com/direct/dbimage/50016374/Grape_Seed_Extract.jpg">
            <a:hlinkClick r:id="rId17"/>
          </p:cNvPr>
          <p:cNvPicPr/>
          <p:nvPr/>
        </p:nvPicPr>
        <p:blipFill>
          <a:blip r:embed="rId18"/>
          <a:srcRect l="6623" t="0" r="7435" b="14058"/>
          <a:stretch/>
        </p:blipFill>
        <p:spPr>
          <a:xfrm>
            <a:off x="5334120" y="38098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2" descr="http://tbn2.google.com/images?q=tbn:tvjeRpGjvRFFDM:http://www.squarehe.com/images/0611/scrape-right-elbow.jp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035840" y="3809880"/>
            <a:ext cx="1469880" cy="1105200"/>
          </a:xfrm>
          <a:prstGeom prst="rect">
            <a:avLst/>
          </a:prstGeom>
          <a:ln w="0">
            <a:noFill/>
          </a:ln>
        </p:spPr>
      </p:pic>
      <p:sp>
        <p:nvSpPr>
          <p:cNvPr id="230" name="TextBox 13"/>
          <p:cNvSpPr/>
          <p:nvPr/>
        </p:nvSpPr>
        <p:spPr>
          <a:xfrm>
            <a:off x="714600" y="2514600"/>
            <a:ext cx="103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c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Box 14"/>
          <p:cNvSpPr/>
          <p:nvPr/>
        </p:nvSpPr>
        <p:spPr>
          <a:xfrm>
            <a:off x="2391120" y="2666880"/>
            <a:ext cx="103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c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Box 15"/>
          <p:cNvSpPr/>
          <p:nvPr/>
        </p:nvSpPr>
        <p:spPr>
          <a:xfrm>
            <a:off x="3986640" y="2514600"/>
            <a:ext cx="10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n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Box 16"/>
          <p:cNvSpPr/>
          <p:nvPr/>
        </p:nvSpPr>
        <p:spPr>
          <a:xfrm>
            <a:off x="558000" y="4952880"/>
            <a:ext cx="116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dr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Box 17"/>
          <p:cNvSpPr/>
          <p:nvPr/>
        </p:nvSpPr>
        <p:spPr>
          <a:xfrm>
            <a:off x="7186680" y="2514600"/>
            <a:ext cx="101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g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Box 18"/>
          <p:cNvSpPr/>
          <p:nvPr/>
        </p:nvSpPr>
        <p:spPr>
          <a:xfrm>
            <a:off x="5738400" y="2590920"/>
            <a:ext cx="10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g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Box 19"/>
          <p:cNvSpPr/>
          <p:nvPr/>
        </p:nvSpPr>
        <p:spPr>
          <a:xfrm>
            <a:off x="2313360" y="495288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t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Box 20"/>
          <p:cNvSpPr/>
          <p:nvPr/>
        </p:nvSpPr>
        <p:spPr>
          <a:xfrm>
            <a:off x="3912840" y="4952880"/>
            <a:ext cx="92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t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Box 21"/>
          <p:cNvSpPr/>
          <p:nvPr/>
        </p:nvSpPr>
        <p:spPr>
          <a:xfrm>
            <a:off x="5358240" y="5029200"/>
            <a:ext cx="12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gr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Box 22"/>
          <p:cNvSpPr/>
          <p:nvPr/>
        </p:nvSpPr>
        <p:spPr>
          <a:xfrm>
            <a:off x="7124760" y="4876920"/>
            <a:ext cx="12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scr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Vowels of /u/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new suit is blu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new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sui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blu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ruit juice was too swe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frui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juic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as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to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we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drew the true size of that spo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drew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tru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ize of that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spo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ocabulary Word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speci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different in some w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press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putting a force on somet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 action="ppaction://hlinksldjump"/>
              </a:rPr>
              <a:t>branch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parts of a tree that grow from the trun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2" action="ppaction://hlinksldjump"/>
              </a:rPr>
              <a:t>picni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a meal eaten outdo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angr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feeling mad and full or ang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finger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parts of the h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clu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held onto or stuck 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66"/>
                </a:solidFill>
                <a:uFillTx/>
                <a:latin typeface="Tahoma"/>
                <a:hlinkClick r:id="rId3" action="ppaction://hlinksldjump"/>
              </a:rPr>
              <a:t>(next slid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cc66"/>
                </a:solidFill>
                <a:uFillTx/>
                <a:latin typeface="Arial"/>
                <a:ea typeface="Arial"/>
                <a:hlinkClick r:id="rId1" action="ppaction://hlinksldjump"/>
              </a:rPr>
              <a:t>branche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7" descr="branche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160020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9" descr="15_19_49---Tree-Branches_web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" y="380988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1" descr="3b569cef409348b4a957b089664de9e8-lg-Sparta-Wisconsin-United%2520States-Autumn-Beautiful-Branches-Clouds-Fall-Fall%2520Colors-HDR-Photomatix-Picturesque-Pretty-Sky-Tre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791320" y="1600200"/>
            <a:ext cx="2876400" cy="2147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3" descr="branches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715000" y="3809880"/>
            <a:ext cx="2952720" cy="22240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5" descr="p202634-Anchorage_AK-Snowy_branches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429000" y="1600200"/>
            <a:ext cx="1422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66"/>
                </a:solidFill>
                <a:uFillTx/>
                <a:latin typeface="Tahoma"/>
                <a:hlinkClick r:id="rId1" action="ppaction://hlinksldjump"/>
              </a:rPr>
              <a:t>picnic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3" name="Picture 7" descr="picnic-healthy-way-a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1600200"/>
            <a:ext cx="2819520" cy="18874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Picnic%2520area45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248520" y="1600200"/>
            <a:ext cx="2428920" cy="18162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1" descr="picnic_caterin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124080" y="3586320"/>
            <a:ext cx="2819520" cy="24876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3" descr="picnic-140_1_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57200" y="35812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5" descr="home-wetbar-picnic-foldingtable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352680" y="1600200"/>
            <a:ext cx="2743200" cy="17780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7" descr="picnic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172200" y="3605040"/>
            <a:ext cx="2505240" cy="24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66"/>
                </a:solidFill>
                <a:uFillTx/>
                <a:latin typeface="Tahoma"/>
                <a:hlinkClick r:id="rId1" action="ppaction://hlinksldjump"/>
              </a:rPr>
              <a:t>tantru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1" name="Picture 7" descr="temper-tantru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1600200"/>
            <a:ext cx="1604880" cy="21337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tantrumREX0805_228x30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800600" y="1600200"/>
            <a:ext cx="1792440" cy="23623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1" descr="tantrum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789600" y="1600200"/>
            <a:ext cx="1906560" cy="23623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3" descr="tantrum-boy-737185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362320" y="1600200"/>
            <a:ext cx="2181240" cy="22003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5" descr="tantrum2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342200" y="4114800"/>
            <a:ext cx="1335240" cy="20098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7" descr="tantrum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57200" y="4114800"/>
            <a:ext cx="1909800" cy="19432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9" descr="toddler_tantrum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2514600" y="4114800"/>
            <a:ext cx="2971800" cy="1981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1" descr="windowslivewritermusingsfor127parenting-10160tantrum1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5562720" y="4648320"/>
            <a:ext cx="160020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e Words to Kno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 action="ppaction://hlinksldjump"/>
              </a:rPr>
              <a:t>tantru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an outburst; a temper f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sce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the way something sme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fierc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wild or dangero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Helen Keller &amp; the Big Stor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200400" y="1752480"/>
          <a:ext cx="3048120" cy="452916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4553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ea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ft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ie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oug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get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ocabulary Word Revie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peci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orl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ranch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ar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icnic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v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ng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v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u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rien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Context Clu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use strategies when we come across words we don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 understa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look in 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ictionar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glossar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times we can get the meaning from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ord part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 If we know the base words and prefix or suffix, we can put the word parts together to give us the meaning of the unknown wor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Context Clu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look for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ontext clue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words and sentences around the unknown wor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day we will learn more about using context clues to find the meaning of 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multiple-meaning wor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5" descr="Student Pages"/>
          <p:cNvPicPr/>
          <p:nvPr/>
        </p:nvPicPr>
        <p:blipFill>
          <a:blip r:embed="rId1"/>
          <a:stretch/>
        </p:blipFill>
        <p:spPr>
          <a:xfrm>
            <a:off x="152280" y="299880"/>
            <a:ext cx="8763120" cy="620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ahoma"/>
              </a:rPr>
              <a:t>Daily Fix-It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e walke to the park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e7960"/>
                </a:solidFill>
                <a:latin typeface="Tahoma"/>
              </a:rPr>
              <a:t>We walk to the park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did tom drink his juice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e7960"/>
                </a:solidFill>
                <a:latin typeface="Tahoma"/>
              </a:rPr>
              <a:t>Did Tom drink his juice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dverbs That Tell Ho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adverb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an tell more about a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verb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y telling </a:t>
            </a:r>
            <a:r>
              <a:rPr b="1" i="1" lang="en-US" sz="3200" spc="-1" strike="noStrike">
                <a:solidFill>
                  <a:srgbClr val="ff9900"/>
                </a:solidFill>
                <a:latin typeface="Tahoma"/>
              </a:rPr>
              <a:t>how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 action is do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erbs that tell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how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usually end in </a:t>
            </a:r>
            <a:r>
              <a:rPr b="1" i="1" lang="en-US" sz="3200" spc="-1" strike="noStrike">
                <a:solidFill>
                  <a:srgbClr val="ff9900"/>
                </a:solidFill>
                <a:latin typeface="Tahoma"/>
              </a:rPr>
              <a:t>–l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na danced merrily across the sta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Merril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ells how Anna danc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Wrap Up Your Day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on Vocabul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k Ques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Talk About 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morrow we will hear a story about another type of stor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Helen Keller &amp; the Big Storm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400"/>
            </a:br>
            <a:r>
              <a:rPr b="0" lang="en-US" sz="3000" spc="-1" strike="noStrike">
                <a:solidFill>
                  <a:srgbClr val="ffffcc"/>
                </a:solidFill>
                <a:latin typeface="Tahoma"/>
              </a:rPr>
              <a:t>Tuesday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1447920" y="236232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rite about a good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iend of yours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6378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Helen Keller &amp; the Big Storm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Wednesday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1447920" y="228600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day we will read more about Tessa.  She happily welcomes winter and excitedly makes a snow cake.  What is your favorite season and why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6378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Helen Keller &amp; the Big Storm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Wednesday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447920" y="228600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day we will read more about Tessa.  She </a:t>
                      </a: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happily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welcomes winter and </a:t>
                      </a: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excitedly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makes a snow cake.  What is your favorite season and why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Helen Keller &amp; the Big Stor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09480" y="1600200"/>
          <a:ext cx="2438640" cy="4572000"/>
        </p:xfrm>
        <a:graphic>
          <a:graphicData uri="http://schemas.openxmlformats.org/drawingml/2006/table">
            <a:tbl>
              <a:tblPr/>
              <a:tblGrid>
                <a:gridCol w="2438640"/>
              </a:tblGrid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Word Famil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a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ap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ar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ar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3505320" y="1295280"/>
          <a:ext cx="5311800" cy="5261040"/>
        </p:xfrm>
        <a:graphic>
          <a:graphicData uri="http://schemas.openxmlformats.org/drawingml/2006/table">
            <a:tbl>
              <a:tblPr/>
              <a:tblGrid>
                <a:gridCol w="5311800"/>
              </a:tblGrid>
              <a:tr h="5290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o               cl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w             juic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uit            dre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lue            fle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rue            </a:t>
                      </a:r>
                      <a:r>
                        <a:rPr b="1" lang="en-US" sz="3200" spc="-1" strike="noStrike">
                          <a:solidFill>
                            <a:srgbClr val="be7960"/>
                          </a:solidFill>
                          <a:latin typeface="Tahoma"/>
                        </a:rPr>
                        <a:t>crui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ol            </a:t>
                      </a:r>
                      <a:r>
                        <a:rPr b="1" lang="en-US" sz="3200" spc="-1" strike="noStrike">
                          <a:solidFill>
                            <a:srgbClr val="be7960"/>
                          </a:solidFill>
                          <a:latin typeface="Tahoma"/>
                        </a:rPr>
                        <a:t>nephe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it             </a:t>
                      </a:r>
                      <a:r>
                        <a:rPr b="1" lang="en-US" sz="3200" spc="-1" strike="noStrike">
                          <a:solidFill>
                            <a:srgbClr val="be7960"/>
                          </a:solidFill>
                          <a:latin typeface="Tahoma"/>
                        </a:rPr>
                        <a:t>shampo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o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Today we will learn about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pthongs oi, o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ds with vowels oo, ue, ew, u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ograph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erbs That Tell H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  <a:ea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676520" y="2895480"/>
          <a:ext cx="6095880" cy="10670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38512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cc66"/>
                </a:solidFill>
                <a:uFillTx/>
                <a:latin typeface="Tahoma"/>
                <a:ea typeface="Times New Roman"/>
                <a:hlinkClick r:id="rId1" action="ppaction://hlinksldjump"/>
              </a:rPr>
              <a:t>funnel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fun - n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The cone-shape of a tornado is called a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funnel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clou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The cloud became a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funnel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shape and reached down to the groun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Use a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funnel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to pour the milk into the bottl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A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  <a:ea typeface="Times New Roman"/>
              </a:rPr>
              <a:t>funnel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shape is larger at the top and smaller at the botto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66"/>
                </a:solidFill>
                <a:uFillTx/>
                <a:latin typeface="Tahoma"/>
                <a:hlinkClick r:id="rId1" action="ppaction://hlinksldjump"/>
              </a:rPr>
              <a:t>funn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3352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9" name="Picture 6" descr="05064%2520Large%2520Funne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1447920"/>
            <a:ext cx="2438280" cy="19508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8" descr="funnels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657600" y="1447920"/>
            <a:ext cx="2514600" cy="18856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0" descr="funnel_cloud_bw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657600" y="3886200"/>
            <a:ext cx="1990800" cy="26290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2" descr="iowa-tornado-funnel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791320" y="4343400"/>
            <a:ext cx="2943000" cy="21668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4" descr="Funnel_cake_20040821_172200_1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00800" y="1447920"/>
            <a:ext cx="2343240" cy="1811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6" descr="funnel%2520cloud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533520" y="4419720"/>
            <a:ext cx="281916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385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cc66"/>
                </a:solidFill>
                <a:uFillTx/>
                <a:latin typeface="Tahoma"/>
                <a:ea typeface="Times New Roman"/>
                <a:hlinkClick r:id="rId1" action="ppaction://hlinksldjump"/>
              </a:rPr>
              <a:t>swirl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  <a:ea typeface="Times New Roman"/>
              </a:rPr>
              <a:t>swir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If things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  <a:ea typeface="Times New Roman"/>
              </a:rPr>
              <a:t>swir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, they twist around and arou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A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  <a:ea typeface="Times New Roman"/>
              </a:rPr>
              <a:t>swirl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motion is a twisting, whirling mo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The fall leaves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  <a:ea typeface="Times New Roman"/>
              </a:rPr>
              <a:t>swir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around the yard as the wind blows th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The fruit smoothie is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  <a:ea typeface="Times New Roman"/>
              </a:rPr>
              <a:t>swirl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in the blend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  <a:ea typeface="Times New Roman"/>
              </a:rPr>
              <a:t>swirl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tornado covered one mile of la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66"/>
                </a:solidFill>
                <a:uFillTx/>
                <a:latin typeface="Tahoma"/>
                <a:hlinkClick r:id="rId1" action="ppaction://hlinksldjump"/>
              </a:rPr>
              <a:t>swir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9" name="Picture 7" descr="swir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1600200"/>
            <a:ext cx="2743200" cy="20620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9" descr="gold-swirl-cuff-bracelets-60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00400" y="3797280"/>
            <a:ext cx="2743200" cy="22892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1" descr="390559-x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581280" y="16002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3" descr="Heart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523200" y="3886200"/>
            <a:ext cx="2135160" cy="22384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5" descr="swirl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57200" y="3838680"/>
            <a:ext cx="2362320" cy="22287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7" descr="Wrought_Iron_Swirl_Candelabra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095880" y="1600200"/>
            <a:ext cx="256248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appy Birthday, Old Man Winter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ahoma"/>
              </a:rPr>
              <a:t>Read-Aloud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pthongs oi, o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o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- 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o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ok at these wor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can read these words  because you know that the dipthongs </a:t>
            </a: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o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o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tand for the sound /oi/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pthongs oi, oy</a:t>
            </a:r>
            <a:br>
              <a:rPr sz="44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poison, rejoice, enjoy, oily, destroy, annoy, choice, oyster, royal,  avoid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981080" y="2057400"/>
          <a:ext cx="5257800" cy="3902040"/>
        </p:xfrm>
        <a:graphic>
          <a:graphicData uri="http://schemas.openxmlformats.org/drawingml/2006/table">
            <a:tbl>
              <a:tblPr/>
              <a:tblGrid>
                <a:gridCol w="2629080"/>
                <a:gridCol w="2628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o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o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pthongs oi, oy</a:t>
            </a:r>
            <a:br>
              <a:rPr sz="44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poison, rejoice, enjoy, oily, destroy, annoy, choice, oyster, royal, avoid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981080" y="2057400"/>
          <a:ext cx="5257800" cy="3902040"/>
        </p:xfrm>
        <a:graphic>
          <a:graphicData uri="http://schemas.openxmlformats.org/drawingml/2006/table">
            <a:tbl>
              <a:tblPr/>
              <a:tblGrid>
                <a:gridCol w="2629080"/>
                <a:gridCol w="2628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o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o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i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24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Big Question: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c000"/>
                </a:solidFill>
                <a:latin typeface="Tahoma"/>
              </a:rPr>
              <a:t>How do changes in the weather affect us?</a:t>
            </a: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38280" y="2666880"/>
            <a:ext cx="6330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pthongs oi, oy</a:t>
            </a:r>
            <a:br>
              <a:rPr sz="44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poison, rejoice, enjoy, oily, destroy, annoy, choice, oyster, royal, avoid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1981080" y="2057400"/>
          <a:ext cx="5257800" cy="3902040"/>
        </p:xfrm>
        <a:graphic>
          <a:graphicData uri="http://schemas.openxmlformats.org/drawingml/2006/table">
            <a:tbl>
              <a:tblPr/>
              <a:tblGrid>
                <a:gridCol w="2629080"/>
                <a:gridCol w="2628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o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o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i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jo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pthongs oi, oy</a:t>
            </a:r>
            <a:br>
              <a:rPr sz="44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poison, rejoice, enjoy, oily, destroy, annoy, choice, oyster, royal, avoid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981080" y="2057400"/>
          <a:ext cx="5257800" cy="3902040"/>
        </p:xfrm>
        <a:graphic>
          <a:graphicData uri="http://schemas.openxmlformats.org/drawingml/2006/table">
            <a:tbl>
              <a:tblPr/>
              <a:tblGrid>
                <a:gridCol w="2629080"/>
                <a:gridCol w="2628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o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o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j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i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jo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pthongs oi, oy</a:t>
            </a:r>
            <a:br>
              <a:rPr sz="44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poison, rejoice, enjoy, oily, destroy, annoy, choice, oyster, royal, avoid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2057400"/>
          <a:ext cx="5257800" cy="3902040"/>
        </p:xfrm>
        <a:graphic>
          <a:graphicData uri="http://schemas.openxmlformats.org/drawingml/2006/table">
            <a:tbl>
              <a:tblPr/>
              <a:tblGrid>
                <a:gridCol w="2629080"/>
                <a:gridCol w="2628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o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o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j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i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jo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i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pthongs oi, oy</a:t>
            </a:r>
            <a:br>
              <a:rPr sz="44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poison, rejoice, enjoy, oily, destroy, annoy, choice, oyster, royal, avoid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981080" y="2057400"/>
          <a:ext cx="5257800" cy="3902040"/>
        </p:xfrm>
        <a:graphic>
          <a:graphicData uri="http://schemas.openxmlformats.org/drawingml/2006/table">
            <a:tbl>
              <a:tblPr/>
              <a:tblGrid>
                <a:gridCol w="2629080"/>
                <a:gridCol w="2628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o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o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j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tr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i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jo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i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pthongs oi, oy</a:t>
            </a:r>
            <a:br>
              <a:rPr sz="44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poison, rejoice, enjoy, oily, destroy, annoy, choice, oyster, royal, avoid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1981080" y="2057400"/>
          <a:ext cx="5257800" cy="3902040"/>
        </p:xfrm>
        <a:graphic>
          <a:graphicData uri="http://schemas.openxmlformats.org/drawingml/2006/table">
            <a:tbl>
              <a:tblPr/>
              <a:tblGrid>
                <a:gridCol w="2629080"/>
                <a:gridCol w="2628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o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o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j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tr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n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i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jo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i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pthongs oi, oy</a:t>
            </a:r>
            <a:br>
              <a:rPr sz="44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poison, rejoice, enjoy, oily, destroy, annoy, choice, oyster, royal, avoid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981080" y="2057400"/>
          <a:ext cx="5257800" cy="3902040"/>
        </p:xfrm>
        <a:graphic>
          <a:graphicData uri="http://schemas.openxmlformats.org/drawingml/2006/table">
            <a:tbl>
              <a:tblPr/>
              <a:tblGrid>
                <a:gridCol w="2629080"/>
                <a:gridCol w="2628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o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o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j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tr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n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i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jo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i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o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pthongs oi, oy</a:t>
            </a:r>
            <a:br>
              <a:rPr sz="44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poison, rejoice, enjoy, oily, destroy, annoy, choice, oyster, royal, avoid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981080" y="2057400"/>
          <a:ext cx="5257800" cy="3902040"/>
        </p:xfrm>
        <a:graphic>
          <a:graphicData uri="http://schemas.openxmlformats.org/drawingml/2006/table">
            <a:tbl>
              <a:tblPr/>
              <a:tblGrid>
                <a:gridCol w="2629080"/>
                <a:gridCol w="2628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o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o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j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tr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n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ys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i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jo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i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o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pthongs oi, oy</a:t>
            </a:r>
            <a:br>
              <a:rPr sz="44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poison, rejoice, enjoy, oily, destroy, annoy, choice, oyster, royal, avoid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981080" y="2057400"/>
          <a:ext cx="5257800" cy="3902040"/>
        </p:xfrm>
        <a:graphic>
          <a:graphicData uri="http://schemas.openxmlformats.org/drawingml/2006/table">
            <a:tbl>
              <a:tblPr/>
              <a:tblGrid>
                <a:gridCol w="2629080"/>
                <a:gridCol w="2628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o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o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j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tr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n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ys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y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i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jo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i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o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pthongs oi, oy</a:t>
            </a:r>
            <a:br>
              <a:rPr sz="44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poison, rejoice, enjoy, oily, destroy, annoy, choice, oyster, royal, avoid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981080" y="2057400"/>
          <a:ext cx="5257800" cy="3902040"/>
        </p:xfrm>
        <a:graphic>
          <a:graphicData uri="http://schemas.openxmlformats.org/drawingml/2006/table">
            <a:tbl>
              <a:tblPr/>
              <a:tblGrid>
                <a:gridCol w="2629080"/>
                <a:gridCol w="2628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o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o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j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tr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n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ys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y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i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jo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i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o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vo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Helen Keller &amp; the Big Stor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2895480" y="990720"/>
          <a:ext cx="3733920" cy="5638680"/>
        </p:xfrm>
        <a:graphic>
          <a:graphicData uri="http://schemas.openxmlformats.org/drawingml/2006/table">
            <a:tbl>
              <a:tblPr/>
              <a:tblGrid>
                <a:gridCol w="3733920"/>
              </a:tblGrid>
              <a:tr h="567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ec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ss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ranch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icn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g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g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u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nt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c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er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0176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Helen Keller &amp; the Big Storm</a:t>
            </a:r>
            <a:r>
              <a:rPr b="0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br>
              <a:rPr sz="4400"/>
            </a:b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</a:rPr>
              <a:t>Monday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523880" y="2362320"/>
          <a:ext cx="6096240" cy="37004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70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magine that it is a warm, pleasant day.  Most people feel great on days like this.  How do changes in the weather affect u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ocabulary Words</a:t>
            </a:r>
            <a:br>
              <a:rPr sz="4400"/>
            </a:b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Do these sentences make sense or are they nonsense?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he made a handprint in the clay by 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pressing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down very har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 peanut butter and jelly sandwich is a 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special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sandwich you usually eat for lunch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ecause I 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clung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very hard to my hat, it blew away in the win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ocabulary Words</a:t>
            </a:r>
            <a:br>
              <a:rPr sz="4400"/>
            </a:b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Do these sentences make sense or are they nonsense?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x was so 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ngry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with Pete that he thanked hi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e hung a birdhouse in the 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branche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of the tre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t</a:t>
            </a:r>
            <a:r>
              <a:rPr b="0" lang="ja-JP" sz="36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 take our dinner outside and have a 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picnic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 put wool socks on my feet to keep my 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finger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war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Helen Keller &amp; the Big Stor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609480" y="1600200"/>
          <a:ext cx="2438640" cy="4572000"/>
        </p:xfrm>
        <a:graphic>
          <a:graphicData uri="http://schemas.openxmlformats.org/drawingml/2006/table">
            <a:tbl>
              <a:tblPr/>
              <a:tblGrid>
                <a:gridCol w="2438640"/>
              </a:tblGrid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Word Famil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a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ap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ar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ar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3505320" y="1295280"/>
          <a:ext cx="5311800" cy="5261040"/>
        </p:xfrm>
        <a:graphic>
          <a:graphicData uri="http://schemas.openxmlformats.org/drawingml/2006/table">
            <a:tbl>
              <a:tblPr/>
              <a:tblGrid>
                <a:gridCol w="5311800"/>
              </a:tblGrid>
              <a:tr h="5290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o               cl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w             juic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uit            dre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lue            fle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rue            </a:t>
                      </a:r>
                      <a:r>
                        <a:rPr b="1" lang="en-US" sz="3200" spc="-1" strike="noStrike">
                          <a:solidFill>
                            <a:srgbClr val="be7960"/>
                          </a:solidFill>
                          <a:latin typeface="Tahoma"/>
                        </a:rPr>
                        <a:t>crui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ol            </a:t>
                      </a:r>
                      <a:r>
                        <a:rPr b="1" lang="en-US" sz="3200" spc="-1" strike="noStrike">
                          <a:solidFill>
                            <a:srgbClr val="be7960"/>
                          </a:solidFill>
                          <a:latin typeface="Tahoma"/>
                        </a:rPr>
                        <a:t>nephe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it             </a:t>
                      </a:r>
                      <a:r>
                        <a:rPr b="1" lang="en-US" sz="3200" spc="-1" strike="noStrike">
                          <a:solidFill>
                            <a:srgbClr val="be7960"/>
                          </a:solidFill>
                          <a:latin typeface="Tahoma"/>
                        </a:rPr>
                        <a:t>shampo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o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Verdana"/>
              </a:rPr>
              <a:t>Word Family Word –share </a:t>
            </a:r>
            <a:r>
              <a:rPr b="0" lang="en-US" sz="1400" spc="-1" strike="noStrike" u="sng">
                <a:solidFill>
                  <a:srgbClr val="ffcc66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219320" y="1447920"/>
          <a:ext cx="6535440" cy="5194080"/>
        </p:xfrm>
        <a:graphic>
          <a:graphicData uri="http://schemas.openxmlformats.org/drawingml/2006/table">
            <a:tbl>
              <a:tblPr/>
              <a:tblGrid>
                <a:gridCol w="2178000"/>
                <a:gridCol w="2179440"/>
                <a:gridCol w="217800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6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fl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gl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c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n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p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t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Word Family Word – sha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53" name="Picture 2" descr="http://tbn1.google.com/images?q=tbn:72m57omTvFxiSM:http://www.lexingtonprosecutor.com/images/DAR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523880"/>
            <a:ext cx="895320" cy="13431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http://tbn0.google.com/images?q=tbn:x1LAgIaQu1Q7FM:http://www.ridemetrobus.com/img/media/Farebox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828800" y="1600200"/>
            <a:ext cx="885960" cy="11811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http://tbn3.google.com/images?q=tbn:y7ujfA55jGPr3M:http://www.zoologi.no/patlas/images/hare-BP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1600200"/>
            <a:ext cx="1285920" cy="10857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8" descr="http://tbn0.google.com/images?q=tbn:TK_4PLY9ZARnqM:http://www.kulacrosse.com/clipartstable/subs/mares%2Bfoals/mare%2Bfoal.gif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24280" y="1676520"/>
            <a:ext cx="1333800" cy="11142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0" descr="http://tbn2.google.com/images?q=tbn:fWAiPEjcy-XdZM:http://z.about.com/d/moroccanfood/1/0/Y/1/-/-/artichoke-bottoms-peel-base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553080" y="1600200"/>
            <a:ext cx="933480" cy="12384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2" descr="http://tbn0.google.com/images?q=tbn:dRQMfe05zGVZNM:http://www.ryenats.org.uk/trips/smtarefl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772400" y="1676520"/>
            <a:ext cx="885960" cy="11523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4" descr="http://tbn1.google.com/images?q=tbn:jW0hWuQkFpVfhM:http://www.thepotteries.org/allpotters/wood_sons/beryl_ware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5800" y="3733920"/>
            <a:ext cx="1181160" cy="8096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6" descr="http://tbn0.google.com/images?q=tbn:vgjsMVGgX-ZdfM:http://www.seahouseslifeboat.org.uk/images/Red%2520Hand%2520Flare%25201.gif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286000" y="3581280"/>
            <a:ext cx="1066680" cy="12384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8" descr="http://tbn0.google.com/images?q=tbn:eIT0oYRfPvU3jM:http://www.osha.gov/SLTC/etools/computerworkstations/images/env_glare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3657600" y="3733920"/>
            <a:ext cx="942840" cy="10094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0" descr="http://tbn0.google.com/images?q=tbn:eDVEMZn0GTi9yM:http://www.gretschdrums.com/pics/series/snare_series.jp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685800" y="5562720"/>
            <a:ext cx="1095480" cy="10000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2" descr="http://tbn3.google.com/images?q=tbn:BnanuqaPKNEukM:http://zwolle.snempaa.nl/oud/MakeshiftArsenal/snare.jp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6400800" y="5486400"/>
            <a:ext cx="1066680" cy="1000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4" descr="http://tbn1.google.com/images?q=tbn:dYEp4c1cAGiQVM:http://z.about.com/d/trucks/1/0/B/A/05_h2sut_spare.jpg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5029200" y="3733920"/>
            <a:ext cx="1162080" cy="11620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6" descr="http://tbn2.google.com/images?q=tbn:VKDyHt2MwTq7CM:http://www.bbc.co.uk/comedy/theoffice/characters/images/gareth_stare_1024.jpg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6858000" y="365760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366" name="TextBox 15"/>
          <p:cNvSpPr/>
          <p:nvPr/>
        </p:nvSpPr>
        <p:spPr>
          <a:xfrm>
            <a:off x="476280" y="2895480"/>
            <a:ext cx="9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d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Box 16"/>
          <p:cNvSpPr/>
          <p:nvPr/>
        </p:nvSpPr>
        <p:spPr>
          <a:xfrm>
            <a:off x="1923480" y="274320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f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Box 17"/>
          <p:cNvSpPr/>
          <p:nvPr/>
        </p:nvSpPr>
        <p:spPr>
          <a:xfrm>
            <a:off x="3220560" y="26668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Box 18"/>
          <p:cNvSpPr/>
          <p:nvPr/>
        </p:nvSpPr>
        <p:spPr>
          <a:xfrm>
            <a:off x="4900320" y="274320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m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Box 19"/>
          <p:cNvSpPr/>
          <p:nvPr/>
        </p:nvSpPr>
        <p:spPr>
          <a:xfrm>
            <a:off x="6572520" y="281952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p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Box 20"/>
          <p:cNvSpPr/>
          <p:nvPr/>
        </p:nvSpPr>
        <p:spPr>
          <a:xfrm>
            <a:off x="7871040" y="281952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t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Box 21"/>
          <p:cNvSpPr/>
          <p:nvPr/>
        </p:nvSpPr>
        <p:spPr>
          <a:xfrm>
            <a:off x="859320" y="449568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Box 22"/>
          <p:cNvSpPr/>
          <p:nvPr/>
        </p:nvSpPr>
        <p:spPr>
          <a:xfrm>
            <a:off x="2384640" y="480060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fl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Box 23"/>
          <p:cNvSpPr/>
          <p:nvPr/>
        </p:nvSpPr>
        <p:spPr>
          <a:xfrm>
            <a:off x="3679200" y="480060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gl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Box 24"/>
          <p:cNvSpPr/>
          <p:nvPr/>
        </p:nvSpPr>
        <p:spPr>
          <a:xfrm>
            <a:off x="5055120" y="4876920"/>
            <a:ext cx="10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sp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Box 25"/>
          <p:cNvSpPr/>
          <p:nvPr/>
        </p:nvSpPr>
        <p:spPr>
          <a:xfrm>
            <a:off x="7192440" y="4724280"/>
            <a:ext cx="9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st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Box 26"/>
          <p:cNvSpPr/>
          <p:nvPr/>
        </p:nvSpPr>
        <p:spPr>
          <a:xfrm>
            <a:off x="1886040" y="6019920"/>
            <a:ext cx="18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snare d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Box 27"/>
          <p:cNvSpPr/>
          <p:nvPr/>
        </p:nvSpPr>
        <p:spPr>
          <a:xfrm>
            <a:off x="7494840" y="601992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sn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Homograph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Homograph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re words that are spelled the same but have different meanin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Homograph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re often pronounced differently to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mograph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knot that has loo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Mom put a bow in my ha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ct of bending the head or bo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The dancers took a bow when we clapp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mograph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mass of moving a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A strong wind knocked over our garbage pai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tighten the spring of a mach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I must wind my watch every d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ahoma"/>
              </a:rPr>
              <a:t>Daily Fix-It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sam is marys nephew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e7960"/>
                </a:solidFill>
                <a:latin typeface="Tahoma"/>
              </a:rPr>
              <a:t>Sam is Mary</a:t>
            </a:r>
            <a:r>
              <a:rPr b="1" lang="ja-JP" sz="5400" spc="-1" strike="noStrike">
                <a:solidFill>
                  <a:srgbClr val="be7960"/>
                </a:solidFill>
                <a:latin typeface="Tahoma"/>
              </a:rPr>
              <a:t>’</a:t>
            </a:r>
            <a:r>
              <a:rPr b="1" lang="en-US" sz="5400" spc="-1" strike="noStrike">
                <a:solidFill>
                  <a:srgbClr val="be7960"/>
                </a:solidFill>
                <a:latin typeface="Tahoma"/>
              </a:rPr>
              <a:t>s nephew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a fact can be pov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e7960"/>
                </a:solidFill>
                <a:latin typeface="Tahoma"/>
              </a:rPr>
              <a:t>A fact can be proved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Adverbs that Tell Ho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adverb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tells more about a verb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ome adverbs tell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how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an action is don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dverbs that tell how usually end in </a:t>
            </a:r>
            <a:r>
              <a:rPr b="1" i="1" lang="en-US" sz="3600" spc="-1" strike="noStrike">
                <a:solidFill>
                  <a:srgbClr val="ff0000"/>
                </a:solidFill>
                <a:latin typeface="Tahoma"/>
              </a:rPr>
              <a:t>–ly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teacher</cp:lastModifiedBy>
  <dcterms:modified xsi:type="dcterms:W3CDTF">2013-02-06T03:33:38Z</dcterms:modified>
  <cp:revision>61</cp:revision>
  <dc:subject/>
  <dc:title>Slide 1</dc:title>
</cp:coreProperties>
</file>